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10.jpeg" ContentType="image/jpeg"/>
  <Override PartName="/ppt/media/chimes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3EA-4B00-47ED-9C23-3CFF8CD7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3E4-3E47-4821-B732-AA85380C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908-8A18-40F6-910F-F6301EA8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3AA-8AD4-4A48-BAA8-2FBA3E55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9D2-D151-4749-BF15-0898E0DD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CE8-BBDB-459D-AAF9-B54D723C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0A0-2883-4506-A5AE-8F98D20E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456-B2A9-4015-8CD6-3D60A3BB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9A4-C3FC-4073-88F6-2B7F83DF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C3F-1D1F-4F5A-9622-3E89BE5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208-7517-4EE0-8A09-4336499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B90-3A9F-496D-9C2A-D9D2F7C3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C63B-D252-40E4-AF0C-7AB76272F9F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0C4A-6D8F-4A53-B66B-2615F4ADE4C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92320" y="2743200"/>
            <a:ext cx="3589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 机械效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测量机械效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65240" y="1733400"/>
            <a:ext cx="78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二章    简单机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矩形 45059"/>
          <p:cNvSpPr/>
          <p:nvPr/>
        </p:nvSpPr>
        <p:spPr>
          <a:xfrm>
            <a:off x="1954080" y="4551480"/>
            <a:ext cx="224964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有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总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＝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6147"/>
          <p:cNvGrpSpPr/>
          <p:nvPr/>
        </p:nvGrpSpPr>
        <p:grpSpPr>
          <a:xfrm>
            <a:off x="355680" y="507960"/>
            <a:ext cx="3299040" cy="807120"/>
            <a:chOff x="355680" y="507960"/>
            <a:chExt cx="3299040" cy="807120"/>
          </a:xfrm>
        </p:grpSpPr>
        <p:sp>
          <p:nvSpPr>
            <p:cNvPr id="417" name="矩形 7"/>
            <p:cNvSpPr/>
            <p:nvPr/>
          </p:nvSpPr>
          <p:spPr>
            <a:xfrm>
              <a:off x="915120" y="507960"/>
              <a:ext cx="167184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16"/>
            <p:cNvSpPr/>
            <p:nvPr/>
          </p:nvSpPr>
          <p:spPr>
            <a:xfrm>
              <a:off x="355680" y="79560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17"/>
            <p:cNvSpPr/>
            <p:nvPr/>
          </p:nvSpPr>
          <p:spPr>
            <a:xfrm>
              <a:off x="717480" y="74484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文本框 6151"/>
            <p:cNvSpPr/>
            <p:nvPr/>
          </p:nvSpPr>
          <p:spPr>
            <a:xfrm>
              <a:off x="1553760" y="78156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测量斜面的机械效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文本框 6152"/>
            <p:cNvSpPr/>
            <p:nvPr/>
          </p:nvSpPr>
          <p:spPr>
            <a:xfrm>
              <a:off x="355680" y="79452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图片 95240" descr="15"/>
          <p:cNvPicPr/>
          <p:nvPr/>
        </p:nvPicPr>
        <p:blipFill>
          <a:blip r:embed="rId1"/>
          <a:srcRect l="0" t="0" r="0" b="14864"/>
          <a:stretch/>
        </p:blipFill>
        <p:spPr>
          <a:xfrm>
            <a:off x="1382760" y="1317600"/>
            <a:ext cx="6019920" cy="2895480"/>
          </a:xfrm>
          <a:prstGeom prst="rect">
            <a:avLst/>
          </a:prstGeom>
          <a:ln w="0">
            <a:noFill/>
          </a:ln>
        </p:spPr>
      </p:pic>
      <p:grpSp>
        <p:nvGrpSpPr>
          <p:cNvPr id="423" name="组合 7"/>
          <p:cNvGrpSpPr/>
          <p:nvPr/>
        </p:nvGrpSpPr>
        <p:grpSpPr>
          <a:xfrm>
            <a:off x="4255920" y="4840200"/>
            <a:ext cx="3326040" cy="1024920"/>
            <a:chOff x="4255920" y="4840200"/>
            <a:chExt cx="3326040" cy="1024920"/>
          </a:xfrm>
        </p:grpSpPr>
        <p:grpSp>
          <p:nvGrpSpPr>
            <p:cNvPr id="424" name="组合 66586"/>
            <p:cNvGrpSpPr/>
            <p:nvPr/>
          </p:nvGrpSpPr>
          <p:grpSpPr>
            <a:xfrm>
              <a:off x="4911840" y="4840200"/>
              <a:ext cx="1092960" cy="1024920"/>
              <a:chOff x="4911840" y="4840200"/>
              <a:chExt cx="1092960" cy="1024920"/>
            </a:xfrm>
          </p:grpSpPr>
          <p:sp>
            <p:nvSpPr>
              <p:cNvPr id="425" name="直接连接符 66576"/>
              <p:cNvSpPr/>
              <p:nvPr/>
            </p:nvSpPr>
            <p:spPr>
              <a:xfrm>
                <a:off x="4911840" y="5361120"/>
                <a:ext cx="1092960" cy="0"/>
              </a:xfrm>
              <a:prstGeom prst="line">
                <a:avLst/>
              </a:prstGeom>
              <a:ln w="255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文本框 66577"/>
              <p:cNvSpPr/>
              <p:nvPr/>
            </p:nvSpPr>
            <p:spPr>
              <a:xfrm>
                <a:off x="5033880" y="4840200"/>
                <a:ext cx="73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W</a:t>
                </a:r>
                <a:r>
                  <a:rPr b="0" lang="zh-CN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有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文本框 66578"/>
              <p:cNvSpPr/>
              <p:nvPr/>
            </p:nvSpPr>
            <p:spPr>
              <a:xfrm>
                <a:off x="5087160" y="5355000"/>
                <a:ext cx="631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文本框 6"/>
            <p:cNvSpPr/>
            <p:nvPr/>
          </p:nvSpPr>
          <p:spPr>
            <a:xfrm>
              <a:off x="4255920" y="5131800"/>
              <a:ext cx="332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η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＝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D:\33\第四节 实验：测滑轮组的机械效率\测斜面的机械效率实验步骤2.jpg"/>
          <p:cNvPicPr/>
          <p:nvPr/>
        </p:nvPicPr>
        <p:blipFill>
          <a:blip r:embed="rId1"/>
          <a:stretch/>
        </p:blipFill>
        <p:spPr>
          <a:xfrm>
            <a:off x="1041480" y="3941640"/>
            <a:ext cx="3124080" cy="24526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D:\33\第四节 实验：测滑轮组的机械效率\测斜面的机械效率实验步骤3.jpg"/>
          <p:cNvPicPr/>
          <p:nvPr/>
        </p:nvPicPr>
        <p:blipFill>
          <a:blip r:embed="rId2"/>
          <a:stretch/>
        </p:blipFill>
        <p:spPr>
          <a:xfrm>
            <a:off x="4863960" y="1239840"/>
            <a:ext cx="3251520" cy="2543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D:\33\第四节 实验：测滑轮组的机械效率\测斜面的机械效率实验步骤4.jpg"/>
          <p:cNvPicPr/>
          <p:nvPr/>
        </p:nvPicPr>
        <p:blipFill>
          <a:blip r:embed="rId3"/>
          <a:stretch/>
        </p:blipFill>
        <p:spPr>
          <a:xfrm>
            <a:off x="1041480" y="1239840"/>
            <a:ext cx="3124080" cy="25430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5"/>
          <p:cNvSpPr/>
          <p:nvPr/>
        </p:nvSpPr>
        <p:spPr>
          <a:xfrm>
            <a:off x="378000" y="593640"/>
            <a:ext cx="673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探究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斜面的机械效率与斜面的倾角的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47109"/>
          <p:cNvSpPr/>
          <p:nvPr/>
        </p:nvSpPr>
        <p:spPr>
          <a:xfrm>
            <a:off x="4751280" y="4384800"/>
            <a:ext cx="3970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你认为要测量哪些物理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实验中要注意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运用了什么研究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2040" y="848880"/>
            <a:ext cx="186552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记录表格：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97000" y="2109960"/>
          <a:ext cx="8686800" cy="2955600"/>
        </p:xfrm>
        <a:graphic>
          <a:graphicData uri="http://schemas.openxmlformats.org/drawingml/2006/table">
            <a:tbl>
              <a:tblPr/>
              <a:tblGrid>
                <a:gridCol w="1085760"/>
                <a:gridCol w="1086120"/>
                <a:gridCol w="1085760"/>
                <a:gridCol w="1085760"/>
                <a:gridCol w="1085760"/>
                <a:gridCol w="1086120"/>
                <a:gridCol w="1085760"/>
                <a:gridCol w="1085760"/>
              </a:tblGrid>
              <a:tr h="117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斜面的倾斜程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木块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斜面高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沿斜面拉力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斜面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用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</a:t>
                      </a:r>
                      <a:r>
                        <a:rPr b="0" lang="zh-CN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Gh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</a:t>
                      </a:r>
                      <a:r>
                        <a:rPr b="0" lang="zh-CN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Fs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机械效率</a:t>
                      </a: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较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较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最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文本框 58418"/>
          <p:cNvSpPr/>
          <p:nvPr/>
        </p:nvSpPr>
        <p:spPr>
          <a:xfrm>
            <a:off x="3851280" y="20559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58419"/>
          <p:cNvSpPr/>
          <p:nvPr/>
        </p:nvSpPr>
        <p:spPr>
          <a:xfrm>
            <a:off x="2590920" y="3341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58420"/>
          <p:cNvSpPr/>
          <p:nvPr/>
        </p:nvSpPr>
        <p:spPr>
          <a:xfrm>
            <a:off x="1511280" y="3341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58421"/>
          <p:cNvSpPr/>
          <p:nvPr/>
        </p:nvSpPr>
        <p:spPr>
          <a:xfrm>
            <a:off x="3924360" y="21272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58422"/>
          <p:cNvSpPr/>
          <p:nvPr/>
        </p:nvSpPr>
        <p:spPr>
          <a:xfrm>
            <a:off x="1511280" y="3917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58423"/>
          <p:cNvSpPr/>
          <p:nvPr/>
        </p:nvSpPr>
        <p:spPr>
          <a:xfrm>
            <a:off x="1511280" y="4494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8424"/>
          <p:cNvSpPr/>
          <p:nvPr/>
        </p:nvSpPr>
        <p:spPr>
          <a:xfrm>
            <a:off x="2590920" y="3917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8425"/>
          <p:cNvSpPr/>
          <p:nvPr/>
        </p:nvSpPr>
        <p:spPr>
          <a:xfrm>
            <a:off x="2590920" y="4494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58426"/>
          <p:cNvSpPr/>
          <p:nvPr/>
        </p:nvSpPr>
        <p:spPr>
          <a:xfrm>
            <a:off x="3670200" y="3341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58427"/>
          <p:cNvSpPr/>
          <p:nvPr/>
        </p:nvSpPr>
        <p:spPr>
          <a:xfrm>
            <a:off x="3670200" y="3917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8428"/>
          <p:cNvSpPr/>
          <p:nvPr/>
        </p:nvSpPr>
        <p:spPr>
          <a:xfrm>
            <a:off x="3670200" y="4494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58429"/>
          <p:cNvSpPr/>
          <p:nvPr/>
        </p:nvSpPr>
        <p:spPr>
          <a:xfrm>
            <a:off x="4822920" y="3341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58430"/>
          <p:cNvSpPr/>
          <p:nvPr/>
        </p:nvSpPr>
        <p:spPr>
          <a:xfrm>
            <a:off x="4822920" y="3917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58431"/>
          <p:cNvSpPr/>
          <p:nvPr/>
        </p:nvSpPr>
        <p:spPr>
          <a:xfrm>
            <a:off x="4822920" y="4494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58432"/>
          <p:cNvSpPr/>
          <p:nvPr/>
        </p:nvSpPr>
        <p:spPr>
          <a:xfrm>
            <a:off x="5830920" y="3341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58433"/>
          <p:cNvSpPr/>
          <p:nvPr/>
        </p:nvSpPr>
        <p:spPr>
          <a:xfrm>
            <a:off x="5830920" y="3917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58434"/>
          <p:cNvSpPr/>
          <p:nvPr/>
        </p:nvSpPr>
        <p:spPr>
          <a:xfrm>
            <a:off x="5830920" y="4494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58435"/>
          <p:cNvSpPr/>
          <p:nvPr/>
        </p:nvSpPr>
        <p:spPr>
          <a:xfrm>
            <a:off x="6912000" y="3341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58436"/>
          <p:cNvSpPr/>
          <p:nvPr/>
        </p:nvSpPr>
        <p:spPr>
          <a:xfrm>
            <a:off x="6912000" y="3917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58437"/>
          <p:cNvSpPr/>
          <p:nvPr/>
        </p:nvSpPr>
        <p:spPr>
          <a:xfrm>
            <a:off x="6912000" y="4494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58438"/>
          <p:cNvSpPr/>
          <p:nvPr/>
        </p:nvSpPr>
        <p:spPr>
          <a:xfrm>
            <a:off x="7991640" y="334152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8439"/>
          <p:cNvSpPr/>
          <p:nvPr/>
        </p:nvSpPr>
        <p:spPr>
          <a:xfrm>
            <a:off x="7991640" y="39178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58440"/>
          <p:cNvSpPr/>
          <p:nvPr/>
        </p:nvSpPr>
        <p:spPr>
          <a:xfrm>
            <a:off x="7991640" y="44942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9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文本框 58417"/>
          <p:cNvSpPr/>
          <p:nvPr/>
        </p:nvSpPr>
        <p:spPr>
          <a:xfrm>
            <a:off x="361800" y="1849320"/>
            <a:ext cx="84204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斜面的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倾斜程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光滑程度一样的斜面，倾斜程度越大，机械效率越高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斜面的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粗糙程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倾斜程度一样的斜面，斜面越光滑，机械效率越高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3"/>
          <p:cNvSpPr/>
          <p:nvPr/>
        </p:nvSpPr>
        <p:spPr>
          <a:xfrm>
            <a:off x="3289320" y="695160"/>
            <a:ext cx="236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影响斜面机械效率的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文本框 3"/>
          <p:cNvSpPr/>
          <p:nvPr/>
        </p:nvSpPr>
        <p:spPr>
          <a:xfrm>
            <a:off x="2139840" y="2365200"/>
            <a:ext cx="7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机械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"/>
          <p:cNvSpPr/>
          <p:nvPr/>
        </p:nvSpPr>
        <p:spPr>
          <a:xfrm>
            <a:off x="3533760" y="207504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滑轮组的机械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5"/>
          <p:cNvSpPr/>
          <p:nvPr/>
        </p:nvSpPr>
        <p:spPr>
          <a:xfrm>
            <a:off x="3533760" y="421308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斜面的机械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4"/>
          <p:cNvSpPr/>
          <p:nvPr/>
        </p:nvSpPr>
        <p:spPr>
          <a:xfrm>
            <a:off x="3043080" y="2365200"/>
            <a:ext cx="309600" cy="2100600"/>
          </a:xfrm>
          <a:custGeom>
            <a:avLst/>
            <a:gdLst>
              <a:gd name="textAreaLeft" fmla="*/ 198000 w 309600"/>
              <a:gd name="textAreaRight" fmla="*/ 309960 w 309600"/>
              <a:gd name="textAreaTop" fmla="*/ 68040 h 2100600"/>
              <a:gd name="textAreaBottom" fmla="*/ 2032560 h 21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1"/>
                  <a:pt x="10800" y="2241"/>
                </a:cubicBezTo>
                <a:lnTo>
                  <a:pt x="10800" y="8559"/>
                </a:lnTo>
                <a:cubicBezTo>
                  <a:pt x="10800" y="9680"/>
                  <a:pt x="5400" y="10800"/>
                  <a:pt x="0" y="10800"/>
                </a:cubicBezTo>
                <a:cubicBezTo>
                  <a:pt x="5400" y="10800"/>
                  <a:pt x="10800" y="11921"/>
                  <a:pt x="10800" y="13041"/>
                </a:cubicBezTo>
                <a:lnTo>
                  <a:pt x="10800" y="19359"/>
                </a:lnTo>
                <a:cubicBezTo>
                  <a:pt x="10800" y="2048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2"/>
          <p:cNvSpPr/>
          <p:nvPr/>
        </p:nvSpPr>
        <p:spPr>
          <a:xfrm>
            <a:off x="695160" y="193824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用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205000" y="1938240"/>
            <a:ext cx="40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人们有用的必须要做的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2205000" y="2649600"/>
            <a:ext cx="46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非我们需要但又不得不做的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2205000" y="335772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用功与额外功的总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6"/>
          <p:cNvSpPr/>
          <p:nvPr/>
        </p:nvSpPr>
        <p:spPr>
          <a:xfrm>
            <a:off x="1069920" y="4896000"/>
            <a:ext cx="48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用功跟总功的比值叫做机械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9"/>
          <p:cNvSpPr/>
          <p:nvPr/>
        </p:nvSpPr>
        <p:spPr>
          <a:xfrm>
            <a:off x="542880" y="42069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什么是机械效率，表达式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711360" y="26496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额外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711360" y="33577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总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7"/>
          <p:cNvGrpSpPr/>
          <p:nvPr/>
        </p:nvGrpSpPr>
        <p:grpSpPr>
          <a:xfrm>
            <a:off x="5953320" y="4581360"/>
            <a:ext cx="1723680" cy="1026000"/>
            <a:chOff x="5953320" y="4581360"/>
            <a:chExt cx="1723680" cy="1026000"/>
          </a:xfrm>
        </p:grpSpPr>
        <p:grpSp>
          <p:nvGrpSpPr>
            <p:cNvPr id="52" name="组合 66586"/>
            <p:cNvGrpSpPr/>
            <p:nvPr/>
          </p:nvGrpSpPr>
          <p:grpSpPr>
            <a:xfrm>
              <a:off x="6583680" y="4581360"/>
              <a:ext cx="1093320" cy="1026000"/>
              <a:chOff x="6583680" y="4581360"/>
              <a:chExt cx="1093320" cy="1026000"/>
            </a:xfrm>
          </p:grpSpPr>
          <p:sp>
            <p:nvSpPr>
              <p:cNvPr id="53" name="直接连接符 66576"/>
              <p:cNvSpPr/>
              <p:nvPr/>
            </p:nvSpPr>
            <p:spPr>
              <a:xfrm>
                <a:off x="6583680" y="5103360"/>
                <a:ext cx="1093320" cy="0"/>
              </a:xfrm>
              <a:prstGeom prst="line">
                <a:avLst/>
              </a:prstGeom>
              <a:ln w="255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文本框 66577"/>
              <p:cNvSpPr/>
              <p:nvPr/>
            </p:nvSpPr>
            <p:spPr>
              <a:xfrm>
                <a:off x="6705720" y="4581360"/>
                <a:ext cx="73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W</a:t>
                </a:r>
                <a:r>
                  <a:rPr b="0" lang="zh-CN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有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文本框 66578"/>
              <p:cNvSpPr/>
              <p:nvPr/>
            </p:nvSpPr>
            <p:spPr>
              <a:xfrm>
                <a:off x="6759360" y="5097240"/>
                <a:ext cx="631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文本框 6"/>
            <p:cNvSpPr/>
            <p:nvPr/>
          </p:nvSpPr>
          <p:spPr>
            <a:xfrm>
              <a:off x="5953320" y="48733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η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左箭头 8"/>
          <p:cNvSpPr/>
          <p:nvPr/>
        </p:nvSpPr>
        <p:spPr>
          <a:xfrm flipH="1">
            <a:off x="1843920" y="202572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左箭头 9"/>
          <p:cNvSpPr/>
          <p:nvPr/>
        </p:nvSpPr>
        <p:spPr>
          <a:xfrm flipH="1">
            <a:off x="1843920" y="273528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左箭头 10"/>
          <p:cNvSpPr/>
          <p:nvPr/>
        </p:nvSpPr>
        <p:spPr>
          <a:xfrm flipH="1">
            <a:off x="1882080" y="344340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542880" y="673200"/>
            <a:ext cx="672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用功、额外功、总功的概念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9"/>
          <p:cNvSpPr/>
          <p:nvPr/>
        </p:nvSpPr>
        <p:spPr>
          <a:xfrm>
            <a:off x="598320" y="56689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何测量机械效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4117320" y="5968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复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"/>
          <p:cNvSpPr/>
          <p:nvPr/>
        </p:nvSpPr>
        <p:spPr>
          <a:xfrm>
            <a:off x="905040" y="2300400"/>
            <a:ext cx="685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会测定某种简单机械的机械效率；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了解如何提高机械效率。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3581280" y="138600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3137040" y="2054160"/>
            <a:ext cx="2106360" cy="10605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4"/>
          <p:cNvGrpSpPr/>
          <p:nvPr/>
        </p:nvGrpSpPr>
        <p:grpSpPr>
          <a:xfrm>
            <a:off x="7227720" y="1665000"/>
            <a:ext cx="1020240" cy="2829960"/>
            <a:chOff x="7227720" y="1665000"/>
            <a:chExt cx="1020240" cy="2829960"/>
          </a:xfrm>
        </p:grpSpPr>
        <p:sp>
          <p:nvSpPr>
            <p:cNvPr id="69" name="Text Box 5"/>
            <p:cNvSpPr/>
            <p:nvPr/>
          </p:nvSpPr>
          <p:spPr>
            <a:xfrm>
              <a:off x="7227720" y="2313720"/>
              <a:ext cx="2523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xjhlx8"/>
            <p:cNvGrpSpPr/>
            <p:nvPr/>
          </p:nvGrpSpPr>
          <p:grpSpPr>
            <a:xfrm>
              <a:off x="7622280" y="1665360"/>
              <a:ext cx="398160" cy="570600"/>
              <a:chOff x="7622280" y="1665360"/>
              <a:chExt cx="398160" cy="570600"/>
            </a:xfrm>
          </p:grpSpPr>
          <p:grpSp>
            <p:nvGrpSpPr>
              <p:cNvPr id="71" name="Group 7"/>
              <p:cNvGrpSpPr/>
              <p:nvPr/>
            </p:nvGrpSpPr>
            <p:grpSpPr>
              <a:xfrm>
                <a:off x="7622280" y="1828800"/>
                <a:ext cx="398160" cy="407160"/>
                <a:chOff x="7622280" y="1828800"/>
                <a:chExt cx="398160" cy="407160"/>
              </a:xfrm>
            </p:grpSpPr>
            <p:sp>
              <p:nvSpPr>
                <p:cNvPr id="72" name="Oval 8"/>
                <p:cNvSpPr/>
                <p:nvPr/>
              </p:nvSpPr>
              <p:spPr>
                <a:xfrm flipH="1" flipV="1" rot="16200000">
                  <a:off x="7617600" y="1832760"/>
                  <a:ext cx="407160" cy="39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Oval 9"/>
                <p:cNvSpPr/>
                <p:nvPr/>
              </p:nvSpPr>
              <p:spPr>
                <a:xfrm flipH="1" flipV="1" rot="16200000">
                  <a:off x="7674120" y="1888200"/>
                  <a:ext cx="294120" cy="28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Oval 10"/>
                <p:cNvSpPr/>
                <p:nvPr/>
              </p:nvSpPr>
              <p:spPr>
                <a:xfrm flipH="1" flipV="1" rot="16200000">
                  <a:off x="7730640" y="1943640"/>
                  <a:ext cx="180720" cy="1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Oval 11"/>
                <p:cNvSpPr/>
                <p:nvPr/>
              </p:nvSpPr>
              <p:spPr>
                <a:xfrm flipH="1" flipV="1" rot="16200000">
                  <a:off x="7787520" y="1999080"/>
                  <a:ext cx="67680" cy="6624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Rectangle 12"/>
              <p:cNvSpPr/>
              <p:nvPr/>
            </p:nvSpPr>
            <p:spPr>
              <a:xfrm flipH="1" flipV="1" rot="16200000">
                <a:off x="7626240" y="1826640"/>
                <a:ext cx="389520" cy="666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xjhlx12"/>
            <p:cNvGrpSpPr/>
            <p:nvPr/>
          </p:nvGrpSpPr>
          <p:grpSpPr>
            <a:xfrm>
              <a:off x="7681320" y="3283920"/>
              <a:ext cx="348480" cy="608760"/>
              <a:chOff x="7681320" y="3283920"/>
              <a:chExt cx="348480" cy="608760"/>
            </a:xfrm>
          </p:grpSpPr>
          <p:grpSp>
            <p:nvGrpSpPr>
              <p:cNvPr id="78" name="Group 14"/>
              <p:cNvGrpSpPr/>
              <p:nvPr/>
            </p:nvGrpSpPr>
            <p:grpSpPr>
              <a:xfrm>
                <a:off x="7681320" y="3283920"/>
                <a:ext cx="348480" cy="357120"/>
                <a:chOff x="7681320" y="3283920"/>
                <a:chExt cx="348480" cy="357120"/>
              </a:xfrm>
            </p:grpSpPr>
            <p:sp>
              <p:nvSpPr>
                <p:cNvPr id="79" name="Oval 15"/>
                <p:cNvSpPr/>
                <p:nvPr/>
              </p:nvSpPr>
              <p:spPr>
                <a:xfrm>
                  <a:off x="7681320" y="3283920"/>
                  <a:ext cx="348480" cy="35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val 16"/>
                <p:cNvSpPr/>
                <p:nvPr/>
              </p:nvSpPr>
              <p:spPr>
                <a:xfrm>
                  <a:off x="7729560" y="3333240"/>
                  <a:ext cx="251640" cy="25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Oval 17"/>
                <p:cNvSpPr/>
                <p:nvPr/>
              </p:nvSpPr>
              <p:spPr>
                <a:xfrm>
                  <a:off x="7778160" y="3382920"/>
                  <a:ext cx="154800" cy="15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Oval 18"/>
                <p:cNvSpPr/>
                <p:nvPr/>
              </p:nvSpPr>
              <p:spPr>
                <a:xfrm>
                  <a:off x="7826400" y="3432600"/>
                  <a:ext cx="57960" cy="594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9"/>
              <p:cNvGrpSpPr/>
              <p:nvPr/>
            </p:nvGrpSpPr>
            <p:grpSpPr>
              <a:xfrm>
                <a:off x="7746480" y="3426480"/>
                <a:ext cx="221400" cy="466200"/>
                <a:chOff x="7746480" y="3426480"/>
                <a:chExt cx="221400" cy="466200"/>
              </a:xfrm>
            </p:grpSpPr>
            <p:sp>
              <p:nvSpPr>
                <p:cNvPr id="84" name="Freeform 20"/>
                <p:cNvSpPr/>
                <p:nvPr/>
              </p:nvSpPr>
              <p:spPr>
                <a:xfrm>
                  <a:off x="7801920" y="3690720"/>
                  <a:ext cx="153720" cy="20196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Group 21"/>
                <p:cNvGrpSpPr/>
                <p:nvPr/>
              </p:nvGrpSpPr>
              <p:grpSpPr>
                <a:xfrm>
                  <a:off x="7746480" y="3426480"/>
                  <a:ext cx="221400" cy="292680"/>
                  <a:chOff x="7746480" y="3426480"/>
                  <a:chExt cx="221400" cy="292680"/>
                </a:xfrm>
              </p:grpSpPr>
              <p:sp>
                <p:nvSpPr>
                  <p:cNvPr id="86" name="Freeform 22"/>
                  <p:cNvSpPr/>
                  <p:nvPr/>
                </p:nvSpPr>
                <p:spPr>
                  <a:xfrm>
                    <a:off x="7746480" y="3426480"/>
                    <a:ext cx="221400" cy="292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23"/>
                  <p:cNvSpPr/>
                  <p:nvPr/>
                </p:nvSpPr>
                <p:spPr>
                  <a:xfrm>
                    <a:off x="7826400" y="3438720"/>
                    <a:ext cx="51840" cy="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24"/>
                  <p:cNvSpPr/>
                  <p:nvPr/>
                </p:nvSpPr>
                <p:spPr>
                  <a:xfrm>
                    <a:off x="7831080" y="3641040"/>
                    <a:ext cx="51840" cy="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9" name="Line 25"/>
            <p:cNvSpPr/>
            <p:nvPr/>
          </p:nvSpPr>
          <p:spPr>
            <a:xfrm>
              <a:off x="7579080" y="2531520"/>
              <a:ext cx="87840" cy="90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>
              <a:off x="8026920" y="2059200"/>
              <a:ext cx="0" cy="136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7"/>
            <p:cNvSpPr/>
            <p:nvPr/>
          </p:nvSpPr>
          <p:spPr>
            <a:xfrm>
              <a:off x="7641000" y="2100960"/>
              <a:ext cx="240120" cy="10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xjhlx13"/>
            <p:cNvGrpSpPr/>
            <p:nvPr/>
          </p:nvGrpSpPr>
          <p:grpSpPr>
            <a:xfrm>
              <a:off x="7727760" y="3828600"/>
              <a:ext cx="280080" cy="373320"/>
              <a:chOff x="7727760" y="3828600"/>
              <a:chExt cx="280080" cy="373320"/>
            </a:xfrm>
          </p:grpSpPr>
          <p:sp>
            <p:nvSpPr>
              <p:cNvPr id="93" name="Freeform 29"/>
              <p:cNvSpPr/>
              <p:nvPr/>
            </p:nvSpPr>
            <p:spPr>
              <a:xfrm>
                <a:off x="7834320" y="4094280"/>
                <a:ext cx="81720" cy="1076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"/>
              <p:cNvSpPr/>
              <p:nvPr/>
            </p:nvSpPr>
            <p:spPr>
              <a:xfrm flipH="1" flipV="1">
                <a:off x="7817760" y="3828240"/>
                <a:ext cx="81720" cy="1076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31"/>
              <p:cNvSpPr/>
              <p:nvPr/>
            </p:nvSpPr>
            <p:spPr>
              <a:xfrm>
                <a:off x="7727760" y="3926880"/>
                <a:ext cx="280080" cy="18900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c0c0c0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xjhlx13"/>
            <p:cNvGrpSpPr/>
            <p:nvPr/>
          </p:nvGrpSpPr>
          <p:grpSpPr>
            <a:xfrm>
              <a:off x="7727760" y="4121640"/>
              <a:ext cx="280080" cy="373320"/>
              <a:chOff x="7727760" y="4121640"/>
              <a:chExt cx="280080" cy="373320"/>
            </a:xfrm>
          </p:grpSpPr>
          <p:sp>
            <p:nvSpPr>
              <p:cNvPr id="97" name="Freeform 33"/>
              <p:cNvSpPr/>
              <p:nvPr/>
            </p:nvSpPr>
            <p:spPr>
              <a:xfrm>
                <a:off x="7834320" y="4387320"/>
                <a:ext cx="81720" cy="1076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4"/>
              <p:cNvSpPr/>
              <p:nvPr/>
            </p:nvSpPr>
            <p:spPr>
              <a:xfrm flipH="1" flipV="1">
                <a:off x="7817760" y="4121280"/>
                <a:ext cx="81720" cy="1076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35"/>
              <p:cNvSpPr/>
              <p:nvPr/>
            </p:nvSpPr>
            <p:spPr>
              <a:xfrm>
                <a:off x="7727760" y="4219920"/>
                <a:ext cx="280080" cy="18900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c0c0c0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36"/>
            <p:cNvGrpSpPr/>
            <p:nvPr/>
          </p:nvGrpSpPr>
          <p:grpSpPr>
            <a:xfrm>
              <a:off x="7473600" y="1665000"/>
              <a:ext cx="774360" cy="44280"/>
              <a:chOff x="7473600" y="1665000"/>
              <a:chExt cx="774360" cy="44280"/>
            </a:xfrm>
          </p:grpSpPr>
          <p:sp>
            <p:nvSpPr>
              <p:cNvPr id="101" name="Line 37"/>
              <p:cNvSpPr/>
              <p:nvPr/>
            </p:nvSpPr>
            <p:spPr>
              <a:xfrm flipH="1" flipV="1">
                <a:off x="7473600" y="1665000"/>
                <a:ext cx="12852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8"/>
              <p:cNvSpPr/>
              <p:nvPr/>
            </p:nvSpPr>
            <p:spPr>
              <a:xfrm flipH="1" flipV="1">
                <a:off x="7602480" y="1665000"/>
                <a:ext cx="12960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9"/>
              <p:cNvSpPr/>
              <p:nvPr/>
            </p:nvSpPr>
            <p:spPr>
              <a:xfrm flipH="1" flipV="1">
                <a:off x="7732080" y="1665000"/>
                <a:ext cx="12888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40"/>
              <p:cNvSpPr/>
              <p:nvPr/>
            </p:nvSpPr>
            <p:spPr>
              <a:xfrm flipH="1" flipV="1">
                <a:off x="7860600" y="1665000"/>
                <a:ext cx="12852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1"/>
              <p:cNvSpPr/>
              <p:nvPr/>
            </p:nvSpPr>
            <p:spPr>
              <a:xfrm flipH="1" flipV="1">
                <a:off x="7989480" y="1665000"/>
                <a:ext cx="12852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2"/>
              <p:cNvSpPr/>
              <p:nvPr/>
            </p:nvSpPr>
            <p:spPr>
              <a:xfrm flipH="1" flipV="1">
                <a:off x="8118360" y="1665000"/>
                <a:ext cx="12960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43"/>
              <p:cNvSpPr/>
              <p:nvPr/>
            </p:nvSpPr>
            <p:spPr>
              <a:xfrm>
                <a:off x="7498440" y="1709280"/>
                <a:ext cx="74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xjhlx12"/>
            <p:cNvGrpSpPr/>
            <p:nvPr/>
          </p:nvGrpSpPr>
          <p:grpSpPr>
            <a:xfrm>
              <a:off x="7696800" y="3039480"/>
              <a:ext cx="348480" cy="608040"/>
              <a:chOff x="7696800" y="3039480"/>
              <a:chExt cx="348480" cy="608040"/>
            </a:xfrm>
          </p:grpSpPr>
          <p:grpSp>
            <p:nvGrpSpPr>
              <p:cNvPr id="109" name="Group 45"/>
              <p:cNvGrpSpPr/>
              <p:nvPr/>
            </p:nvGrpSpPr>
            <p:grpSpPr>
              <a:xfrm>
                <a:off x="7696800" y="3290400"/>
                <a:ext cx="348480" cy="357120"/>
                <a:chOff x="7696800" y="3290400"/>
                <a:chExt cx="348480" cy="357120"/>
              </a:xfrm>
            </p:grpSpPr>
            <p:sp>
              <p:nvSpPr>
                <p:cNvPr id="110" name="Oval 46"/>
                <p:cNvSpPr/>
                <p:nvPr/>
              </p:nvSpPr>
              <p:spPr>
                <a:xfrm flipV="1">
                  <a:off x="7696800" y="3290400"/>
                  <a:ext cx="348480" cy="35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47"/>
                <p:cNvSpPr/>
                <p:nvPr/>
              </p:nvSpPr>
              <p:spPr>
                <a:xfrm flipV="1">
                  <a:off x="7745040" y="3339720"/>
                  <a:ext cx="251640" cy="25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48"/>
                <p:cNvSpPr/>
                <p:nvPr/>
              </p:nvSpPr>
              <p:spPr>
                <a:xfrm flipV="1">
                  <a:off x="7793640" y="3389400"/>
                  <a:ext cx="154800" cy="15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49"/>
                <p:cNvSpPr/>
                <p:nvPr/>
              </p:nvSpPr>
              <p:spPr>
                <a:xfrm flipV="1">
                  <a:off x="7841880" y="3439080"/>
                  <a:ext cx="57960" cy="594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50"/>
              <p:cNvGrpSpPr/>
              <p:nvPr/>
            </p:nvGrpSpPr>
            <p:grpSpPr>
              <a:xfrm>
                <a:off x="7761960" y="3039480"/>
                <a:ext cx="221400" cy="465480"/>
                <a:chOff x="7761960" y="3039480"/>
                <a:chExt cx="221400" cy="465480"/>
              </a:xfrm>
            </p:grpSpPr>
            <p:sp>
              <p:nvSpPr>
                <p:cNvPr id="115" name="Freeform 51"/>
                <p:cNvSpPr/>
                <p:nvPr/>
              </p:nvSpPr>
              <p:spPr>
                <a:xfrm flipV="1">
                  <a:off x="7817400" y="3039480"/>
                  <a:ext cx="153720" cy="20160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52"/>
                <p:cNvGrpSpPr/>
                <p:nvPr/>
              </p:nvGrpSpPr>
              <p:grpSpPr>
                <a:xfrm>
                  <a:off x="7761960" y="3212280"/>
                  <a:ext cx="221400" cy="292680"/>
                  <a:chOff x="7761960" y="3212280"/>
                  <a:chExt cx="221400" cy="292680"/>
                </a:xfrm>
              </p:grpSpPr>
              <p:sp>
                <p:nvSpPr>
                  <p:cNvPr id="117" name="Freeform 53"/>
                  <p:cNvSpPr/>
                  <p:nvPr/>
                </p:nvSpPr>
                <p:spPr>
                  <a:xfrm flipV="1">
                    <a:off x="7761960" y="3211920"/>
                    <a:ext cx="221400" cy="292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54"/>
                  <p:cNvSpPr/>
                  <p:nvPr/>
                </p:nvSpPr>
                <p:spPr>
                  <a:xfrm flipV="1">
                    <a:off x="7841880" y="3439440"/>
                    <a:ext cx="51840" cy="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Oval 55"/>
                  <p:cNvSpPr/>
                  <p:nvPr/>
                </p:nvSpPr>
                <p:spPr>
                  <a:xfrm flipV="1">
                    <a:off x="7846560" y="3237120"/>
                    <a:ext cx="51840" cy="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20" name="矩形 4"/>
          <p:cNvSpPr/>
          <p:nvPr/>
        </p:nvSpPr>
        <p:spPr>
          <a:xfrm>
            <a:off x="880920" y="1530360"/>
            <a:ext cx="1824120" cy="489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实验原理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836640" y="3114720"/>
            <a:ext cx="1868400" cy="489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实验器材</a:t>
            </a:r>
            <a:r>
              <a:rPr b="0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836640" y="5059440"/>
            <a:ext cx="1868400" cy="489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注意事项</a:t>
            </a:r>
            <a:r>
              <a:rPr b="0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781280" y="3699000"/>
            <a:ext cx="45417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弹簧测力计、刻度尺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铁架台、滑轮、细线、钩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806480" y="5846760"/>
            <a:ext cx="45165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竖直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向上，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缓慢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拉动测力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2112"/>
          <p:cNvGrpSpPr/>
          <p:nvPr/>
        </p:nvGrpSpPr>
        <p:grpSpPr>
          <a:xfrm>
            <a:off x="6416280" y="1214280"/>
            <a:ext cx="1125720" cy="3779280"/>
            <a:chOff x="6416280" y="1214280"/>
            <a:chExt cx="1125720" cy="3779280"/>
          </a:xfrm>
        </p:grpSpPr>
        <p:grpSp>
          <p:nvGrpSpPr>
            <p:cNvPr id="126" name="xjhlx8"/>
            <p:cNvGrpSpPr/>
            <p:nvPr/>
          </p:nvGrpSpPr>
          <p:grpSpPr>
            <a:xfrm>
              <a:off x="6637320" y="1218960"/>
              <a:ext cx="579600" cy="784440"/>
              <a:chOff x="6637320" y="1218960"/>
              <a:chExt cx="579600" cy="784440"/>
            </a:xfrm>
          </p:grpSpPr>
          <p:grpSp>
            <p:nvGrpSpPr>
              <p:cNvPr id="127" name="Group 146"/>
              <p:cNvGrpSpPr/>
              <p:nvPr/>
            </p:nvGrpSpPr>
            <p:grpSpPr>
              <a:xfrm>
                <a:off x="6637320" y="1443600"/>
                <a:ext cx="579600" cy="559800"/>
                <a:chOff x="6637320" y="1443600"/>
                <a:chExt cx="579600" cy="559800"/>
              </a:xfrm>
            </p:grpSpPr>
            <p:sp>
              <p:nvSpPr>
                <p:cNvPr id="128" name="Oval 147"/>
                <p:cNvSpPr/>
                <p:nvPr/>
              </p:nvSpPr>
              <p:spPr>
                <a:xfrm flipH="1" flipV="1" rot="16200000">
                  <a:off x="6647040" y="1433160"/>
                  <a:ext cx="559800" cy="57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48"/>
                <p:cNvSpPr/>
                <p:nvPr/>
              </p:nvSpPr>
              <p:spPr>
                <a:xfrm flipH="1" flipV="1" rot="16200000">
                  <a:off x="6724800" y="1513800"/>
                  <a:ext cx="404280" cy="41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149"/>
                <p:cNvSpPr/>
                <p:nvPr/>
              </p:nvSpPr>
              <p:spPr>
                <a:xfrm flipH="1" flipV="1" rot="16200000">
                  <a:off x="6802560" y="1594440"/>
                  <a:ext cx="248760" cy="25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150"/>
                <p:cNvSpPr/>
                <p:nvPr/>
              </p:nvSpPr>
              <p:spPr>
                <a:xfrm flipH="1" flipV="1" rot="16200000">
                  <a:off x="6880320" y="1674720"/>
                  <a:ext cx="93240" cy="964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Rectangle 151"/>
              <p:cNvSpPr/>
              <p:nvPr/>
            </p:nvSpPr>
            <p:spPr>
              <a:xfrm flipH="1" flipV="1" rot="16200000">
                <a:off x="6659280" y="1437840"/>
                <a:ext cx="535320" cy="9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164"/>
            <p:cNvSpPr/>
            <p:nvPr/>
          </p:nvSpPr>
          <p:spPr>
            <a:xfrm>
              <a:off x="6632640" y="2825640"/>
              <a:ext cx="3240" cy="81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5"/>
            <p:cNvSpPr/>
            <p:nvPr/>
          </p:nvSpPr>
          <p:spPr>
            <a:xfrm flipH="1">
              <a:off x="7206840" y="1757160"/>
              <a:ext cx="12600" cy="1811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66"/>
            <p:cNvSpPr/>
            <p:nvPr/>
          </p:nvSpPr>
          <p:spPr>
            <a:xfrm>
              <a:off x="6659640" y="1812600"/>
              <a:ext cx="296640" cy="13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组合 2123"/>
            <p:cNvGrpSpPr/>
            <p:nvPr/>
          </p:nvGrpSpPr>
          <p:grpSpPr>
            <a:xfrm>
              <a:off x="6632640" y="4125600"/>
              <a:ext cx="677520" cy="867960"/>
              <a:chOff x="6632640" y="4125600"/>
              <a:chExt cx="677520" cy="867960"/>
            </a:xfrm>
          </p:grpSpPr>
          <p:sp>
            <p:nvSpPr>
              <p:cNvPr id="137" name="Freeform 169"/>
              <p:cNvSpPr/>
              <p:nvPr/>
            </p:nvSpPr>
            <p:spPr>
              <a:xfrm flipH="1" flipV="1">
                <a:off x="6854400" y="4125600"/>
                <a:ext cx="160200" cy="18576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70"/>
              <p:cNvSpPr/>
              <p:nvPr/>
            </p:nvSpPr>
            <p:spPr>
              <a:xfrm>
                <a:off x="6632640" y="4324320"/>
                <a:ext cx="677520" cy="6692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c0c0c0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75"/>
            <p:cNvGrpSpPr/>
            <p:nvPr/>
          </p:nvGrpSpPr>
          <p:grpSpPr>
            <a:xfrm>
              <a:off x="6416280" y="1214280"/>
              <a:ext cx="1125720" cy="61920"/>
              <a:chOff x="6416280" y="1214280"/>
              <a:chExt cx="1125720" cy="61920"/>
            </a:xfrm>
          </p:grpSpPr>
          <p:sp>
            <p:nvSpPr>
              <p:cNvPr id="140" name="Line 176"/>
              <p:cNvSpPr/>
              <p:nvPr/>
            </p:nvSpPr>
            <p:spPr>
              <a:xfrm flipH="1" flipV="1">
                <a:off x="6416280" y="1214280"/>
                <a:ext cx="18684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77"/>
              <p:cNvSpPr/>
              <p:nvPr/>
            </p:nvSpPr>
            <p:spPr>
              <a:xfrm flipH="1" flipV="1">
                <a:off x="6603120" y="1214280"/>
                <a:ext cx="1882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78"/>
              <p:cNvSpPr/>
              <p:nvPr/>
            </p:nvSpPr>
            <p:spPr>
              <a:xfrm flipH="1" flipV="1">
                <a:off x="6791760" y="1214280"/>
                <a:ext cx="18720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79"/>
              <p:cNvSpPr/>
              <p:nvPr/>
            </p:nvSpPr>
            <p:spPr>
              <a:xfrm flipH="1" flipV="1">
                <a:off x="6978960" y="1214280"/>
                <a:ext cx="18684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80"/>
              <p:cNvSpPr/>
              <p:nvPr/>
            </p:nvSpPr>
            <p:spPr>
              <a:xfrm flipH="1" flipV="1">
                <a:off x="7166160" y="1214280"/>
                <a:ext cx="18684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81"/>
              <p:cNvSpPr/>
              <p:nvPr/>
            </p:nvSpPr>
            <p:spPr>
              <a:xfrm flipH="1" flipV="1">
                <a:off x="7353360" y="1214280"/>
                <a:ext cx="18864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82"/>
              <p:cNvSpPr/>
              <p:nvPr/>
            </p:nvSpPr>
            <p:spPr>
              <a:xfrm>
                <a:off x="6452280" y="1276200"/>
                <a:ext cx="1087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2134"/>
            <p:cNvGrpSpPr/>
            <p:nvPr/>
          </p:nvGrpSpPr>
          <p:grpSpPr>
            <a:xfrm>
              <a:off x="6642000" y="3102840"/>
              <a:ext cx="574920" cy="1057680"/>
              <a:chOff x="6642000" y="3102840"/>
              <a:chExt cx="574920" cy="1057680"/>
            </a:xfrm>
          </p:grpSpPr>
          <p:grpSp>
            <p:nvGrpSpPr>
              <p:cNvPr id="148" name="Group 153"/>
              <p:cNvGrpSpPr/>
              <p:nvPr/>
            </p:nvGrpSpPr>
            <p:grpSpPr>
              <a:xfrm>
                <a:off x="6642000" y="3331800"/>
                <a:ext cx="550800" cy="530280"/>
                <a:chOff x="6642000" y="3331800"/>
                <a:chExt cx="550800" cy="530280"/>
              </a:xfrm>
            </p:grpSpPr>
            <p:sp>
              <p:nvSpPr>
                <p:cNvPr id="149" name="Oval 154"/>
                <p:cNvSpPr/>
                <p:nvPr/>
              </p:nvSpPr>
              <p:spPr>
                <a:xfrm>
                  <a:off x="6642000" y="3331800"/>
                  <a:ext cx="55080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5"/>
                <p:cNvSpPr/>
                <p:nvPr/>
              </p:nvSpPr>
              <p:spPr>
                <a:xfrm>
                  <a:off x="6718320" y="3405240"/>
                  <a:ext cx="397800" cy="38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Oval 156"/>
                <p:cNvSpPr/>
                <p:nvPr/>
              </p:nvSpPr>
              <p:spPr>
                <a:xfrm>
                  <a:off x="6795000" y="3479040"/>
                  <a:ext cx="244800" cy="23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Oval 157"/>
                <p:cNvSpPr/>
                <p:nvPr/>
              </p:nvSpPr>
              <p:spPr>
                <a:xfrm>
                  <a:off x="6871320" y="3552840"/>
                  <a:ext cx="91800" cy="882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84"/>
              <p:cNvGrpSpPr/>
              <p:nvPr/>
            </p:nvGrpSpPr>
            <p:grpSpPr>
              <a:xfrm>
                <a:off x="6665760" y="3341160"/>
                <a:ext cx="551160" cy="530280"/>
                <a:chOff x="6665760" y="3341160"/>
                <a:chExt cx="551160" cy="530280"/>
              </a:xfrm>
            </p:grpSpPr>
            <p:sp>
              <p:nvSpPr>
                <p:cNvPr id="154" name="Oval 185"/>
                <p:cNvSpPr/>
                <p:nvPr/>
              </p:nvSpPr>
              <p:spPr>
                <a:xfrm flipV="1">
                  <a:off x="6665760" y="3340800"/>
                  <a:ext cx="55116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Oval 186"/>
                <p:cNvSpPr/>
                <p:nvPr/>
              </p:nvSpPr>
              <p:spPr>
                <a:xfrm flipV="1">
                  <a:off x="6742080" y="3414960"/>
                  <a:ext cx="398160" cy="38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87"/>
                <p:cNvSpPr/>
                <p:nvPr/>
              </p:nvSpPr>
              <p:spPr>
                <a:xfrm flipV="1">
                  <a:off x="6818760" y="3488760"/>
                  <a:ext cx="244800" cy="23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188"/>
                <p:cNvSpPr/>
                <p:nvPr/>
              </p:nvSpPr>
              <p:spPr>
                <a:xfrm flipV="1">
                  <a:off x="6895440" y="3561840"/>
                  <a:ext cx="91800" cy="882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组合 2145"/>
              <p:cNvGrpSpPr/>
              <p:nvPr/>
            </p:nvGrpSpPr>
            <p:grpSpPr>
              <a:xfrm>
                <a:off x="6865920" y="3102840"/>
                <a:ext cx="180720" cy="1057680"/>
                <a:chOff x="6865920" y="3102840"/>
                <a:chExt cx="180720" cy="1057680"/>
              </a:xfrm>
            </p:grpSpPr>
            <p:sp>
              <p:nvSpPr>
                <p:cNvPr id="159" name="Freeform 210"/>
                <p:cNvSpPr/>
                <p:nvPr/>
              </p:nvSpPr>
              <p:spPr>
                <a:xfrm flipV="1">
                  <a:off x="6911640" y="3102480"/>
                  <a:ext cx="122400" cy="16812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210"/>
                <p:cNvSpPr/>
                <p:nvPr/>
              </p:nvSpPr>
              <p:spPr>
                <a:xfrm>
                  <a:off x="6910200" y="3992040"/>
                  <a:ext cx="122400" cy="16848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212"/>
                <p:cNvSpPr/>
                <p:nvPr/>
              </p:nvSpPr>
              <p:spPr>
                <a:xfrm>
                  <a:off x="6865920" y="3561840"/>
                  <a:ext cx="180720" cy="430200"/>
                </a:xfrm>
                <a:custGeom>
                  <a:avLst/>
                  <a:gdLst/>
                  <a:ahLst/>
                  <a:rect l="l" t="t" r="r" b="b"/>
                  <a:pathLst>
                    <a:path w="915" h="1180">
                      <a:moveTo>
                        <a:pt x="0" y="0"/>
                      </a:moveTo>
                      <a:lnTo>
                        <a:pt x="915" y="15"/>
                      </a:lnTo>
                      <a:lnTo>
                        <a:pt x="630" y="1180"/>
                      </a:lnTo>
                      <a:lnTo>
                        <a:pt x="270" y="11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969696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val 214"/>
                <p:cNvSpPr/>
                <p:nvPr/>
              </p:nvSpPr>
              <p:spPr>
                <a:xfrm>
                  <a:off x="6905520" y="3945960"/>
                  <a:ext cx="8568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212"/>
                <p:cNvSpPr/>
                <p:nvPr/>
              </p:nvSpPr>
              <p:spPr>
                <a:xfrm flipV="1">
                  <a:off x="6865920" y="3226320"/>
                  <a:ext cx="180720" cy="384120"/>
                </a:xfrm>
                <a:custGeom>
                  <a:avLst/>
                  <a:gdLst/>
                  <a:ahLst/>
                  <a:rect l="l" t="t" r="r" b="b"/>
                  <a:pathLst>
                    <a:path w="915" h="1180">
                      <a:moveTo>
                        <a:pt x="0" y="0"/>
                      </a:moveTo>
                      <a:lnTo>
                        <a:pt x="915" y="15"/>
                      </a:lnTo>
                      <a:lnTo>
                        <a:pt x="630" y="1180"/>
                      </a:lnTo>
                      <a:lnTo>
                        <a:pt x="270" y="11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969696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213"/>
                <p:cNvSpPr/>
                <p:nvPr/>
              </p:nvSpPr>
              <p:spPr>
                <a:xfrm>
                  <a:off x="6910200" y="3227040"/>
                  <a:ext cx="8568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椭圆 2152"/>
                <p:cNvSpPr/>
                <p:nvPr/>
              </p:nvSpPr>
              <p:spPr>
                <a:xfrm>
                  <a:off x="6895800" y="3563640"/>
                  <a:ext cx="128880" cy="9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5b5b"/>
                    </a:gs>
                    <a:gs pos="50000">
                      <a:srgbClr val="969696"/>
                    </a:gs>
                    <a:gs pos="100000">
                      <a:srgbClr val="5b5b5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Oval 213"/>
                <p:cNvSpPr/>
                <p:nvPr/>
              </p:nvSpPr>
              <p:spPr>
                <a:xfrm>
                  <a:off x="6914880" y="3585600"/>
                  <a:ext cx="8568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7" name="组合 6147"/>
          <p:cNvGrpSpPr/>
          <p:nvPr/>
        </p:nvGrpSpPr>
        <p:grpSpPr>
          <a:xfrm>
            <a:off x="295200" y="404640"/>
            <a:ext cx="3584160" cy="807120"/>
            <a:chOff x="295200" y="404640"/>
            <a:chExt cx="3584160" cy="807120"/>
          </a:xfrm>
        </p:grpSpPr>
        <p:sp>
          <p:nvSpPr>
            <p:cNvPr id="168" name="矩形 7"/>
            <p:cNvSpPr/>
            <p:nvPr/>
          </p:nvSpPr>
          <p:spPr>
            <a:xfrm>
              <a:off x="855000" y="404640"/>
              <a:ext cx="167256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16"/>
            <p:cNvSpPr/>
            <p:nvPr/>
          </p:nvSpPr>
          <p:spPr>
            <a:xfrm>
              <a:off x="295200" y="69228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7"/>
            <p:cNvSpPr/>
            <p:nvPr/>
          </p:nvSpPr>
          <p:spPr>
            <a:xfrm>
              <a:off x="657000" y="6415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6151"/>
            <p:cNvSpPr/>
            <p:nvPr/>
          </p:nvSpPr>
          <p:spPr>
            <a:xfrm>
              <a:off x="1564920" y="67824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测量滑轮组的机械效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6152"/>
            <p:cNvSpPr/>
            <p:nvPr/>
          </p:nvSpPr>
          <p:spPr>
            <a:xfrm>
              <a:off x="295200" y="6912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66640" y="2168640"/>
          <a:ext cx="7020000" cy="2655720"/>
        </p:xfrm>
        <a:graphic>
          <a:graphicData uri="http://schemas.openxmlformats.org/drawingml/2006/table">
            <a:tbl>
              <a:tblPr/>
              <a:tblGrid>
                <a:gridCol w="368280"/>
                <a:gridCol w="808200"/>
                <a:gridCol w="919080"/>
                <a:gridCol w="866880"/>
                <a:gridCol w="819000"/>
                <a:gridCol w="1216080"/>
                <a:gridCol w="1044360"/>
                <a:gridCol w="978120"/>
              </a:tblGrid>
              <a:tr h="66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G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F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s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W</a:t>
                      </a:r>
                      <a:r>
                        <a:rPr b="1" lang="zh-CN" sz="2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有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W</a:t>
                      </a:r>
                      <a:r>
                        <a:rPr b="1" lang="zh-CN" sz="2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总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5" name="组合 11374"/>
          <p:cNvGrpSpPr/>
          <p:nvPr/>
        </p:nvGrpSpPr>
        <p:grpSpPr>
          <a:xfrm>
            <a:off x="7767720" y="1042560"/>
            <a:ext cx="972360" cy="2533680"/>
            <a:chOff x="7767720" y="1042560"/>
            <a:chExt cx="972360" cy="2533680"/>
          </a:xfrm>
        </p:grpSpPr>
        <p:sp>
          <p:nvSpPr>
            <p:cNvPr id="176" name="Text Box 111"/>
            <p:cNvSpPr/>
            <p:nvPr/>
          </p:nvSpPr>
          <p:spPr>
            <a:xfrm>
              <a:off x="7767720" y="1619280"/>
              <a:ext cx="258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xjhlx8"/>
            <p:cNvGrpSpPr/>
            <p:nvPr/>
          </p:nvGrpSpPr>
          <p:grpSpPr>
            <a:xfrm>
              <a:off x="8102520" y="1042920"/>
              <a:ext cx="407880" cy="569520"/>
              <a:chOff x="8102520" y="1042920"/>
              <a:chExt cx="407880" cy="569520"/>
            </a:xfrm>
          </p:grpSpPr>
          <p:grpSp>
            <p:nvGrpSpPr>
              <p:cNvPr id="178" name="Group 113"/>
              <p:cNvGrpSpPr/>
              <p:nvPr/>
            </p:nvGrpSpPr>
            <p:grpSpPr>
              <a:xfrm>
                <a:off x="8102520" y="1206000"/>
                <a:ext cx="407880" cy="406440"/>
                <a:chOff x="8102520" y="1206000"/>
                <a:chExt cx="407880" cy="406440"/>
              </a:xfrm>
            </p:grpSpPr>
            <p:sp>
              <p:nvSpPr>
                <p:cNvPr id="179" name="Oval 114"/>
                <p:cNvSpPr/>
                <p:nvPr/>
              </p:nvSpPr>
              <p:spPr>
                <a:xfrm flipH="1" flipV="1" rot="16200000">
                  <a:off x="8102880" y="1204920"/>
                  <a:ext cx="406440" cy="4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15"/>
                <p:cNvSpPr/>
                <p:nvPr/>
              </p:nvSpPr>
              <p:spPr>
                <a:xfrm flipH="1" flipV="1" rot="16200000">
                  <a:off x="8159760" y="1261080"/>
                  <a:ext cx="293400" cy="2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116"/>
                <p:cNvSpPr/>
                <p:nvPr/>
              </p:nvSpPr>
              <p:spPr>
                <a:xfrm flipH="1" flipV="1" rot="16200000">
                  <a:off x="8215920" y="1318320"/>
                  <a:ext cx="18072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117"/>
                <p:cNvSpPr/>
                <p:nvPr/>
              </p:nvSpPr>
              <p:spPr>
                <a:xfrm flipH="1" flipV="1" rot="16200000">
                  <a:off x="8272080" y="1374840"/>
                  <a:ext cx="67680" cy="6804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Rectangle 118"/>
              <p:cNvSpPr/>
              <p:nvPr/>
            </p:nvSpPr>
            <p:spPr>
              <a:xfrm flipH="1" flipV="1" rot="16200000">
                <a:off x="8111880" y="1203120"/>
                <a:ext cx="388800" cy="680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xjhlx12"/>
            <p:cNvGrpSpPr/>
            <p:nvPr/>
          </p:nvGrpSpPr>
          <p:grpSpPr>
            <a:xfrm>
              <a:off x="8160120" y="2658960"/>
              <a:ext cx="357120" cy="607680"/>
              <a:chOff x="8160120" y="2658960"/>
              <a:chExt cx="357120" cy="607680"/>
            </a:xfrm>
          </p:grpSpPr>
          <p:grpSp>
            <p:nvGrpSpPr>
              <p:cNvPr id="185" name="Group 120"/>
              <p:cNvGrpSpPr/>
              <p:nvPr/>
            </p:nvGrpSpPr>
            <p:grpSpPr>
              <a:xfrm>
                <a:off x="8160120" y="2658960"/>
                <a:ext cx="357120" cy="356760"/>
                <a:chOff x="8160120" y="2658960"/>
                <a:chExt cx="357120" cy="356760"/>
              </a:xfrm>
            </p:grpSpPr>
            <p:sp>
              <p:nvSpPr>
                <p:cNvPr id="186" name="Oval 121"/>
                <p:cNvSpPr/>
                <p:nvPr/>
              </p:nvSpPr>
              <p:spPr>
                <a:xfrm>
                  <a:off x="8160120" y="2658960"/>
                  <a:ext cx="35712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122"/>
                <p:cNvSpPr/>
                <p:nvPr/>
              </p:nvSpPr>
              <p:spPr>
                <a:xfrm>
                  <a:off x="8209440" y="2708280"/>
                  <a:ext cx="258120" cy="25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123"/>
                <p:cNvSpPr/>
                <p:nvPr/>
              </p:nvSpPr>
              <p:spPr>
                <a:xfrm>
                  <a:off x="8259120" y="2757960"/>
                  <a:ext cx="158760" cy="15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124"/>
                <p:cNvSpPr/>
                <p:nvPr/>
              </p:nvSpPr>
              <p:spPr>
                <a:xfrm>
                  <a:off x="8308800" y="2807640"/>
                  <a:ext cx="59400" cy="594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25"/>
              <p:cNvGrpSpPr/>
              <p:nvPr/>
            </p:nvGrpSpPr>
            <p:grpSpPr>
              <a:xfrm>
                <a:off x="8227080" y="2801160"/>
                <a:ext cx="226800" cy="465480"/>
                <a:chOff x="8227080" y="2801160"/>
                <a:chExt cx="226800" cy="465480"/>
              </a:xfrm>
            </p:grpSpPr>
            <p:sp>
              <p:nvSpPr>
                <p:cNvPr id="191" name="Freeform 126"/>
                <p:cNvSpPr/>
                <p:nvPr/>
              </p:nvSpPr>
              <p:spPr>
                <a:xfrm>
                  <a:off x="8283960" y="3065040"/>
                  <a:ext cx="157320" cy="20160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2" name="Group 127"/>
                <p:cNvGrpSpPr/>
                <p:nvPr/>
              </p:nvGrpSpPr>
              <p:grpSpPr>
                <a:xfrm>
                  <a:off x="8227080" y="2801160"/>
                  <a:ext cx="226800" cy="292320"/>
                  <a:chOff x="8227080" y="2801160"/>
                  <a:chExt cx="226800" cy="292320"/>
                </a:xfrm>
              </p:grpSpPr>
              <p:sp>
                <p:nvSpPr>
                  <p:cNvPr id="193" name="Freeform 128"/>
                  <p:cNvSpPr/>
                  <p:nvPr/>
                </p:nvSpPr>
                <p:spPr>
                  <a:xfrm>
                    <a:off x="8227080" y="2801160"/>
                    <a:ext cx="22680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Oval 129"/>
                  <p:cNvSpPr/>
                  <p:nvPr/>
                </p:nvSpPr>
                <p:spPr>
                  <a:xfrm>
                    <a:off x="8308800" y="2813400"/>
                    <a:ext cx="53280" cy="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Oval 130"/>
                  <p:cNvSpPr/>
                  <p:nvPr/>
                </p:nvSpPr>
                <p:spPr>
                  <a:xfrm>
                    <a:off x="8313840" y="3015360"/>
                    <a:ext cx="53280" cy="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" name="Line 131"/>
            <p:cNvSpPr/>
            <p:nvPr/>
          </p:nvSpPr>
          <p:spPr>
            <a:xfrm>
              <a:off x="8055000" y="1979640"/>
              <a:ext cx="90720" cy="82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2"/>
            <p:cNvSpPr/>
            <p:nvPr/>
          </p:nvSpPr>
          <p:spPr>
            <a:xfrm>
              <a:off x="8514000" y="1436400"/>
              <a:ext cx="0" cy="1365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33"/>
            <p:cNvSpPr/>
            <p:nvPr/>
          </p:nvSpPr>
          <p:spPr>
            <a:xfrm>
              <a:off x="8118720" y="1477800"/>
              <a:ext cx="245880" cy="101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xjhlx13"/>
            <p:cNvGrpSpPr/>
            <p:nvPr/>
          </p:nvGrpSpPr>
          <p:grpSpPr>
            <a:xfrm>
              <a:off x="8207640" y="3202920"/>
              <a:ext cx="287280" cy="373320"/>
              <a:chOff x="8207640" y="3202920"/>
              <a:chExt cx="287280" cy="373320"/>
            </a:xfrm>
          </p:grpSpPr>
          <p:sp>
            <p:nvSpPr>
              <p:cNvPr id="200" name="Freeform 135"/>
              <p:cNvSpPr/>
              <p:nvPr/>
            </p:nvSpPr>
            <p:spPr>
              <a:xfrm>
                <a:off x="8317080" y="3468600"/>
                <a:ext cx="83880" cy="1076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6"/>
              <p:cNvSpPr/>
              <p:nvPr/>
            </p:nvSpPr>
            <p:spPr>
              <a:xfrm flipH="1" flipV="1">
                <a:off x="8300160" y="3202560"/>
                <a:ext cx="83880" cy="1076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37"/>
              <p:cNvSpPr/>
              <p:nvPr/>
            </p:nvSpPr>
            <p:spPr>
              <a:xfrm>
                <a:off x="8207640" y="3301200"/>
                <a:ext cx="287280" cy="18900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c0c0c0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38"/>
            <p:cNvGrpSpPr/>
            <p:nvPr/>
          </p:nvGrpSpPr>
          <p:grpSpPr>
            <a:xfrm>
              <a:off x="7947360" y="1042560"/>
              <a:ext cx="792720" cy="44280"/>
              <a:chOff x="7947360" y="1042560"/>
              <a:chExt cx="792720" cy="44280"/>
            </a:xfrm>
          </p:grpSpPr>
          <p:sp>
            <p:nvSpPr>
              <p:cNvPr id="204" name="Line 139"/>
              <p:cNvSpPr/>
              <p:nvPr/>
            </p:nvSpPr>
            <p:spPr>
              <a:xfrm flipH="1" flipV="1">
                <a:off x="7947360" y="1042560"/>
                <a:ext cx="13176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40"/>
              <p:cNvSpPr/>
              <p:nvPr/>
            </p:nvSpPr>
            <p:spPr>
              <a:xfrm flipH="1" flipV="1">
                <a:off x="8078760" y="1042560"/>
                <a:ext cx="13284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41"/>
              <p:cNvSpPr/>
              <p:nvPr/>
            </p:nvSpPr>
            <p:spPr>
              <a:xfrm flipH="1" flipV="1">
                <a:off x="8211960" y="1042560"/>
                <a:ext cx="13176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42"/>
              <p:cNvSpPr/>
              <p:nvPr/>
            </p:nvSpPr>
            <p:spPr>
              <a:xfrm flipH="1" flipV="1">
                <a:off x="8344080" y="1042560"/>
                <a:ext cx="13176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43"/>
              <p:cNvSpPr/>
              <p:nvPr/>
            </p:nvSpPr>
            <p:spPr>
              <a:xfrm flipH="1" flipV="1">
                <a:off x="8475840" y="1042560"/>
                <a:ext cx="13176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44"/>
              <p:cNvSpPr/>
              <p:nvPr/>
            </p:nvSpPr>
            <p:spPr>
              <a:xfrm flipH="1" flipV="1">
                <a:off x="8607240" y="1042560"/>
                <a:ext cx="13284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45"/>
              <p:cNvSpPr/>
              <p:nvPr/>
            </p:nvSpPr>
            <p:spPr>
              <a:xfrm>
                <a:off x="7972200" y="1086840"/>
                <a:ext cx="766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xjhlx12"/>
            <p:cNvGrpSpPr/>
            <p:nvPr/>
          </p:nvGrpSpPr>
          <p:grpSpPr>
            <a:xfrm>
              <a:off x="8175960" y="2414520"/>
              <a:ext cx="357120" cy="607680"/>
              <a:chOff x="8175960" y="2414520"/>
              <a:chExt cx="357120" cy="607680"/>
            </a:xfrm>
          </p:grpSpPr>
          <p:grpSp>
            <p:nvGrpSpPr>
              <p:cNvPr id="212" name="Group 147"/>
              <p:cNvGrpSpPr/>
              <p:nvPr/>
            </p:nvGrpSpPr>
            <p:grpSpPr>
              <a:xfrm>
                <a:off x="8175960" y="2665440"/>
                <a:ext cx="357120" cy="356760"/>
                <a:chOff x="8175960" y="2665440"/>
                <a:chExt cx="357120" cy="356760"/>
              </a:xfrm>
            </p:grpSpPr>
            <p:sp>
              <p:nvSpPr>
                <p:cNvPr id="213" name="Oval 148"/>
                <p:cNvSpPr/>
                <p:nvPr/>
              </p:nvSpPr>
              <p:spPr>
                <a:xfrm flipV="1">
                  <a:off x="8175960" y="2665080"/>
                  <a:ext cx="35712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49"/>
                <p:cNvSpPr/>
                <p:nvPr/>
              </p:nvSpPr>
              <p:spPr>
                <a:xfrm flipV="1">
                  <a:off x="8225280" y="2715120"/>
                  <a:ext cx="258120" cy="25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50"/>
                <p:cNvSpPr/>
                <p:nvPr/>
              </p:nvSpPr>
              <p:spPr>
                <a:xfrm flipV="1">
                  <a:off x="8274960" y="2764800"/>
                  <a:ext cx="158760" cy="15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51"/>
                <p:cNvSpPr/>
                <p:nvPr/>
              </p:nvSpPr>
              <p:spPr>
                <a:xfrm flipV="1">
                  <a:off x="8324640" y="2813760"/>
                  <a:ext cx="59400" cy="594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152"/>
              <p:cNvGrpSpPr/>
              <p:nvPr/>
            </p:nvGrpSpPr>
            <p:grpSpPr>
              <a:xfrm>
                <a:off x="8242920" y="2414520"/>
                <a:ext cx="226800" cy="465480"/>
                <a:chOff x="8242920" y="2414520"/>
                <a:chExt cx="226800" cy="465480"/>
              </a:xfrm>
            </p:grpSpPr>
            <p:sp>
              <p:nvSpPr>
                <p:cNvPr id="218" name="Freeform 153"/>
                <p:cNvSpPr/>
                <p:nvPr/>
              </p:nvSpPr>
              <p:spPr>
                <a:xfrm flipV="1">
                  <a:off x="8299800" y="2414520"/>
                  <a:ext cx="157320" cy="20160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9" name="Group 154"/>
                <p:cNvGrpSpPr/>
                <p:nvPr/>
              </p:nvGrpSpPr>
              <p:grpSpPr>
                <a:xfrm>
                  <a:off x="8242920" y="2587680"/>
                  <a:ext cx="226800" cy="292320"/>
                  <a:chOff x="8242920" y="2587680"/>
                  <a:chExt cx="226800" cy="292320"/>
                </a:xfrm>
              </p:grpSpPr>
              <p:sp>
                <p:nvSpPr>
                  <p:cNvPr id="220" name="Freeform 155"/>
                  <p:cNvSpPr/>
                  <p:nvPr/>
                </p:nvSpPr>
                <p:spPr>
                  <a:xfrm flipV="1">
                    <a:off x="8242920" y="2587680"/>
                    <a:ext cx="22680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56"/>
                  <p:cNvSpPr/>
                  <p:nvPr/>
                </p:nvSpPr>
                <p:spPr>
                  <a:xfrm flipV="1">
                    <a:off x="8324640" y="2814480"/>
                    <a:ext cx="53280" cy="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57"/>
                  <p:cNvSpPr/>
                  <p:nvPr/>
                </p:nvSpPr>
                <p:spPr>
                  <a:xfrm flipV="1">
                    <a:off x="8329680" y="2612520"/>
                    <a:ext cx="53280" cy="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3" name="TextBox 8"/>
          <p:cNvSpPr/>
          <p:nvPr/>
        </p:nvSpPr>
        <p:spPr>
          <a:xfrm>
            <a:off x="798480" y="747720"/>
            <a:ext cx="6029280" cy="115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实验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保持动滑轮重一定，改变钩码重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717480" y="5176800"/>
            <a:ext cx="760572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结论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动滑轮重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一定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物重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越大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机械效率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越高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xjhlx13"/>
          <p:cNvGrpSpPr/>
          <p:nvPr/>
        </p:nvGrpSpPr>
        <p:grpSpPr>
          <a:xfrm>
            <a:off x="8037360" y="3789000"/>
            <a:ext cx="287640" cy="373320"/>
            <a:chOff x="8037360" y="3789000"/>
            <a:chExt cx="287640" cy="373320"/>
          </a:xfrm>
        </p:grpSpPr>
        <p:sp>
          <p:nvSpPr>
            <p:cNvPr id="226" name="Freeform 135"/>
            <p:cNvSpPr/>
            <p:nvPr/>
          </p:nvSpPr>
          <p:spPr>
            <a:xfrm>
              <a:off x="8146800" y="4054680"/>
              <a:ext cx="84240" cy="107640"/>
            </a:xfrm>
            <a:custGeom>
              <a:avLst/>
              <a:gdLst/>
              <a:ahLst/>
              <a:rect l="l" t="t" r="r" b="b"/>
              <a:pathLst>
                <a:path w="2020" h="2594">
                  <a:moveTo>
                    <a:pt x="472" y="15"/>
                  </a:moveTo>
                  <a:cubicBezTo>
                    <a:pt x="472" y="107"/>
                    <a:pt x="477" y="387"/>
                    <a:pt x="472" y="552"/>
                  </a:cubicBezTo>
                  <a:cubicBezTo>
                    <a:pt x="467" y="717"/>
                    <a:pt x="480" y="887"/>
                    <a:pt x="442" y="1005"/>
                  </a:cubicBezTo>
                  <a:cubicBezTo>
                    <a:pt x="404" y="1123"/>
                    <a:pt x="302" y="1180"/>
                    <a:pt x="247" y="1260"/>
                  </a:cubicBezTo>
                  <a:cubicBezTo>
                    <a:pt x="192" y="1340"/>
                    <a:pt x="152" y="1398"/>
                    <a:pt x="112" y="1488"/>
                  </a:cubicBezTo>
                  <a:cubicBezTo>
                    <a:pt x="72" y="1578"/>
                    <a:pt x="14" y="1706"/>
                    <a:pt x="7" y="1800"/>
                  </a:cubicBezTo>
                  <a:cubicBezTo>
                    <a:pt x="0" y="1894"/>
                    <a:pt x="25" y="1968"/>
                    <a:pt x="67" y="2055"/>
                  </a:cubicBezTo>
                  <a:cubicBezTo>
                    <a:pt x="109" y="2142"/>
                    <a:pt x="165" y="2245"/>
                    <a:pt x="262" y="2325"/>
                  </a:cubicBezTo>
                  <a:cubicBezTo>
                    <a:pt x="359" y="2405"/>
                    <a:pt x="515" y="2498"/>
                    <a:pt x="652" y="2535"/>
                  </a:cubicBezTo>
                  <a:cubicBezTo>
                    <a:pt x="789" y="2572"/>
                    <a:pt x="937" y="2594"/>
                    <a:pt x="1087" y="2550"/>
                  </a:cubicBezTo>
                  <a:cubicBezTo>
                    <a:pt x="1237" y="2506"/>
                    <a:pt x="1440" y="2366"/>
                    <a:pt x="1552" y="2268"/>
                  </a:cubicBezTo>
                  <a:cubicBezTo>
                    <a:pt x="1664" y="2170"/>
                    <a:pt x="1702" y="2069"/>
                    <a:pt x="1762" y="1965"/>
                  </a:cubicBezTo>
                  <a:cubicBezTo>
                    <a:pt x="1822" y="1861"/>
                    <a:pt x="1872" y="1759"/>
                    <a:pt x="1912" y="1644"/>
                  </a:cubicBezTo>
                  <a:cubicBezTo>
                    <a:pt x="1952" y="1529"/>
                    <a:pt x="2020" y="1309"/>
                    <a:pt x="2002" y="1275"/>
                  </a:cubicBezTo>
                  <a:cubicBezTo>
                    <a:pt x="1984" y="1241"/>
                    <a:pt x="1874" y="1355"/>
                    <a:pt x="1807" y="1440"/>
                  </a:cubicBezTo>
                  <a:cubicBezTo>
                    <a:pt x="1740" y="1525"/>
                    <a:pt x="1669" y="1690"/>
                    <a:pt x="1597" y="1785"/>
                  </a:cubicBezTo>
                  <a:cubicBezTo>
                    <a:pt x="1525" y="1880"/>
                    <a:pt x="1442" y="1953"/>
                    <a:pt x="1372" y="2010"/>
                  </a:cubicBezTo>
                  <a:cubicBezTo>
                    <a:pt x="1302" y="2067"/>
                    <a:pt x="1257" y="2113"/>
                    <a:pt x="1177" y="2130"/>
                  </a:cubicBezTo>
                  <a:cubicBezTo>
                    <a:pt x="1097" y="2147"/>
                    <a:pt x="982" y="2147"/>
                    <a:pt x="892" y="2115"/>
                  </a:cubicBezTo>
                  <a:cubicBezTo>
                    <a:pt x="802" y="2083"/>
                    <a:pt x="677" y="2022"/>
                    <a:pt x="637" y="1935"/>
                  </a:cubicBezTo>
                  <a:cubicBezTo>
                    <a:pt x="597" y="1848"/>
                    <a:pt x="612" y="1702"/>
                    <a:pt x="652" y="1590"/>
                  </a:cubicBezTo>
                  <a:cubicBezTo>
                    <a:pt x="692" y="1478"/>
                    <a:pt x="817" y="1355"/>
                    <a:pt x="877" y="1260"/>
                  </a:cubicBezTo>
                  <a:cubicBezTo>
                    <a:pt x="937" y="1165"/>
                    <a:pt x="990" y="1112"/>
                    <a:pt x="1012" y="1020"/>
                  </a:cubicBezTo>
                  <a:cubicBezTo>
                    <a:pt x="1034" y="928"/>
                    <a:pt x="1012" y="786"/>
                    <a:pt x="1012" y="708"/>
                  </a:cubicBezTo>
                  <a:cubicBezTo>
                    <a:pt x="1012" y="630"/>
                    <a:pt x="1012" y="670"/>
                    <a:pt x="1012" y="552"/>
                  </a:cubicBezTo>
                  <a:cubicBezTo>
                    <a:pt x="1012" y="434"/>
                    <a:pt x="1012" y="115"/>
                    <a:pt x="1012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6"/>
            <p:cNvSpPr/>
            <p:nvPr/>
          </p:nvSpPr>
          <p:spPr>
            <a:xfrm flipH="1" flipV="1">
              <a:off x="8130600" y="3788640"/>
              <a:ext cx="84240" cy="107640"/>
            </a:xfrm>
            <a:custGeom>
              <a:avLst/>
              <a:gdLst/>
              <a:ahLst/>
              <a:rect l="l" t="t" r="r" b="b"/>
              <a:pathLst>
                <a:path w="2020" h="2594">
                  <a:moveTo>
                    <a:pt x="472" y="15"/>
                  </a:moveTo>
                  <a:cubicBezTo>
                    <a:pt x="472" y="107"/>
                    <a:pt x="477" y="387"/>
                    <a:pt x="472" y="552"/>
                  </a:cubicBezTo>
                  <a:cubicBezTo>
                    <a:pt x="467" y="717"/>
                    <a:pt x="480" y="887"/>
                    <a:pt x="442" y="1005"/>
                  </a:cubicBezTo>
                  <a:cubicBezTo>
                    <a:pt x="404" y="1123"/>
                    <a:pt x="302" y="1180"/>
                    <a:pt x="247" y="1260"/>
                  </a:cubicBezTo>
                  <a:cubicBezTo>
                    <a:pt x="192" y="1340"/>
                    <a:pt x="152" y="1398"/>
                    <a:pt x="112" y="1488"/>
                  </a:cubicBezTo>
                  <a:cubicBezTo>
                    <a:pt x="72" y="1578"/>
                    <a:pt x="14" y="1706"/>
                    <a:pt x="7" y="1800"/>
                  </a:cubicBezTo>
                  <a:cubicBezTo>
                    <a:pt x="0" y="1894"/>
                    <a:pt x="25" y="1968"/>
                    <a:pt x="67" y="2055"/>
                  </a:cubicBezTo>
                  <a:cubicBezTo>
                    <a:pt x="109" y="2142"/>
                    <a:pt x="165" y="2245"/>
                    <a:pt x="262" y="2325"/>
                  </a:cubicBezTo>
                  <a:cubicBezTo>
                    <a:pt x="359" y="2405"/>
                    <a:pt x="515" y="2498"/>
                    <a:pt x="652" y="2535"/>
                  </a:cubicBezTo>
                  <a:cubicBezTo>
                    <a:pt x="789" y="2572"/>
                    <a:pt x="937" y="2594"/>
                    <a:pt x="1087" y="2550"/>
                  </a:cubicBezTo>
                  <a:cubicBezTo>
                    <a:pt x="1237" y="2506"/>
                    <a:pt x="1440" y="2366"/>
                    <a:pt x="1552" y="2268"/>
                  </a:cubicBezTo>
                  <a:cubicBezTo>
                    <a:pt x="1664" y="2170"/>
                    <a:pt x="1702" y="2069"/>
                    <a:pt x="1762" y="1965"/>
                  </a:cubicBezTo>
                  <a:cubicBezTo>
                    <a:pt x="1822" y="1861"/>
                    <a:pt x="1872" y="1759"/>
                    <a:pt x="1912" y="1644"/>
                  </a:cubicBezTo>
                  <a:cubicBezTo>
                    <a:pt x="1952" y="1529"/>
                    <a:pt x="2020" y="1309"/>
                    <a:pt x="2002" y="1275"/>
                  </a:cubicBezTo>
                  <a:cubicBezTo>
                    <a:pt x="1984" y="1241"/>
                    <a:pt x="1874" y="1355"/>
                    <a:pt x="1807" y="1440"/>
                  </a:cubicBezTo>
                  <a:cubicBezTo>
                    <a:pt x="1740" y="1525"/>
                    <a:pt x="1669" y="1690"/>
                    <a:pt x="1597" y="1785"/>
                  </a:cubicBezTo>
                  <a:cubicBezTo>
                    <a:pt x="1525" y="1880"/>
                    <a:pt x="1442" y="1953"/>
                    <a:pt x="1372" y="2010"/>
                  </a:cubicBezTo>
                  <a:cubicBezTo>
                    <a:pt x="1302" y="2067"/>
                    <a:pt x="1257" y="2113"/>
                    <a:pt x="1177" y="2130"/>
                  </a:cubicBezTo>
                  <a:cubicBezTo>
                    <a:pt x="1097" y="2147"/>
                    <a:pt x="982" y="2147"/>
                    <a:pt x="892" y="2115"/>
                  </a:cubicBezTo>
                  <a:cubicBezTo>
                    <a:pt x="802" y="2083"/>
                    <a:pt x="677" y="2022"/>
                    <a:pt x="637" y="1935"/>
                  </a:cubicBezTo>
                  <a:cubicBezTo>
                    <a:pt x="597" y="1848"/>
                    <a:pt x="612" y="1702"/>
                    <a:pt x="652" y="1590"/>
                  </a:cubicBezTo>
                  <a:cubicBezTo>
                    <a:pt x="692" y="1478"/>
                    <a:pt x="817" y="1355"/>
                    <a:pt x="877" y="1260"/>
                  </a:cubicBezTo>
                  <a:cubicBezTo>
                    <a:pt x="937" y="1165"/>
                    <a:pt x="990" y="1112"/>
                    <a:pt x="1012" y="1020"/>
                  </a:cubicBezTo>
                  <a:cubicBezTo>
                    <a:pt x="1034" y="928"/>
                    <a:pt x="1012" y="786"/>
                    <a:pt x="1012" y="708"/>
                  </a:cubicBezTo>
                  <a:cubicBezTo>
                    <a:pt x="1012" y="630"/>
                    <a:pt x="1012" y="670"/>
                    <a:pt x="1012" y="552"/>
                  </a:cubicBezTo>
                  <a:cubicBezTo>
                    <a:pt x="1012" y="434"/>
                    <a:pt x="1012" y="115"/>
                    <a:pt x="1012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7"/>
            <p:cNvSpPr/>
            <p:nvPr/>
          </p:nvSpPr>
          <p:spPr>
            <a:xfrm>
              <a:off x="8037360" y="3886920"/>
              <a:ext cx="287640" cy="18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c0c0c0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xjhlx13"/>
          <p:cNvGrpSpPr/>
          <p:nvPr/>
        </p:nvGrpSpPr>
        <p:grpSpPr>
          <a:xfrm>
            <a:off x="8486640" y="3789000"/>
            <a:ext cx="287640" cy="373320"/>
            <a:chOff x="8486640" y="3789000"/>
            <a:chExt cx="287640" cy="373320"/>
          </a:xfrm>
        </p:grpSpPr>
        <p:sp>
          <p:nvSpPr>
            <p:cNvPr id="230" name="Freeform 135"/>
            <p:cNvSpPr/>
            <p:nvPr/>
          </p:nvSpPr>
          <p:spPr>
            <a:xfrm>
              <a:off x="8596080" y="4054680"/>
              <a:ext cx="84240" cy="107640"/>
            </a:xfrm>
            <a:custGeom>
              <a:avLst/>
              <a:gdLst/>
              <a:ahLst/>
              <a:rect l="l" t="t" r="r" b="b"/>
              <a:pathLst>
                <a:path w="2020" h="2594">
                  <a:moveTo>
                    <a:pt x="472" y="15"/>
                  </a:moveTo>
                  <a:cubicBezTo>
                    <a:pt x="472" y="107"/>
                    <a:pt x="477" y="387"/>
                    <a:pt x="472" y="552"/>
                  </a:cubicBezTo>
                  <a:cubicBezTo>
                    <a:pt x="467" y="717"/>
                    <a:pt x="480" y="887"/>
                    <a:pt x="442" y="1005"/>
                  </a:cubicBezTo>
                  <a:cubicBezTo>
                    <a:pt x="404" y="1123"/>
                    <a:pt x="302" y="1180"/>
                    <a:pt x="247" y="1260"/>
                  </a:cubicBezTo>
                  <a:cubicBezTo>
                    <a:pt x="192" y="1340"/>
                    <a:pt x="152" y="1398"/>
                    <a:pt x="112" y="1488"/>
                  </a:cubicBezTo>
                  <a:cubicBezTo>
                    <a:pt x="72" y="1578"/>
                    <a:pt x="14" y="1706"/>
                    <a:pt x="7" y="1800"/>
                  </a:cubicBezTo>
                  <a:cubicBezTo>
                    <a:pt x="0" y="1894"/>
                    <a:pt x="25" y="1968"/>
                    <a:pt x="67" y="2055"/>
                  </a:cubicBezTo>
                  <a:cubicBezTo>
                    <a:pt x="109" y="2142"/>
                    <a:pt x="165" y="2245"/>
                    <a:pt x="262" y="2325"/>
                  </a:cubicBezTo>
                  <a:cubicBezTo>
                    <a:pt x="359" y="2405"/>
                    <a:pt x="515" y="2498"/>
                    <a:pt x="652" y="2535"/>
                  </a:cubicBezTo>
                  <a:cubicBezTo>
                    <a:pt x="789" y="2572"/>
                    <a:pt x="937" y="2594"/>
                    <a:pt x="1087" y="2550"/>
                  </a:cubicBezTo>
                  <a:cubicBezTo>
                    <a:pt x="1237" y="2506"/>
                    <a:pt x="1440" y="2366"/>
                    <a:pt x="1552" y="2268"/>
                  </a:cubicBezTo>
                  <a:cubicBezTo>
                    <a:pt x="1664" y="2170"/>
                    <a:pt x="1702" y="2069"/>
                    <a:pt x="1762" y="1965"/>
                  </a:cubicBezTo>
                  <a:cubicBezTo>
                    <a:pt x="1822" y="1861"/>
                    <a:pt x="1872" y="1759"/>
                    <a:pt x="1912" y="1644"/>
                  </a:cubicBezTo>
                  <a:cubicBezTo>
                    <a:pt x="1952" y="1529"/>
                    <a:pt x="2020" y="1309"/>
                    <a:pt x="2002" y="1275"/>
                  </a:cubicBezTo>
                  <a:cubicBezTo>
                    <a:pt x="1984" y="1241"/>
                    <a:pt x="1874" y="1355"/>
                    <a:pt x="1807" y="1440"/>
                  </a:cubicBezTo>
                  <a:cubicBezTo>
                    <a:pt x="1740" y="1525"/>
                    <a:pt x="1669" y="1690"/>
                    <a:pt x="1597" y="1785"/>
                  </a:cubicBezTo>
                  <a:cubicBezTo>
                    <a:pt x="1525" y="1880"/>
                    <a:pt x="1442" y="1953"/>
                    <a:pt x="1372" y="2010"/>
                  </a:cubicBezTo>
                  <a:cubicBezTo>
                    <a:pt x="1302" y="2067"/>
                    <a:pt x="1257" y="2113"/>
                    <a:pt x="1177" y="2130"/>
                  </a:cubicBezTo>
                  <a:cubicBezTo>
                    <a:pt x="1097" y="2147"/>
                    <a:pt x="982" y="2147"/>
                    <a:pt x="892" y="2115"/>
                  </a:cubicBezTo>
                  <a:cubicBezTo>
                    <a:pt x="802" y="2083"/>
                    <a:pt x="677" y="2022"/>
                    <a:pt x="637" y="1935"/>
                  </a:cubicBezTo>
                  <a:cubicBezTo>
                    <a:pt x="597" y="1848"/>
                    <a:pt x="612" y="1702"/>
                    <a:pt x="652" y="1590"/>
                  </a:cubicBezTo>
                  <a:cubicBezTo>
                    <a:pt x="692" y="1478"/>
                    <a:pt x="817" y="1355"/>
                    <a:pt x="877" y="1260"/>
                  </a:cubicBezTo>
                  <a:cubicBezTo>
                    <a:pt x="937" y="1165"/>
                    <a:pt x="990" y="1112"/>
                    <a:pt x="1012" y="1020"/>
                  </a:cubicBezTo>
                  <a:cubicBezTo>
                    <a:pt x="1034" y="928"/>
                    <a:pt x="1012" y="786"/>
                    <a:pt x="1012" y="708"/>
                  </a:cubicBezTo>
                  <a:cubicBezTo>
                    <a:pt x="1012" y="630"/>
                    <a:pt x="1012" y="670"/>
                    <a:pt x="1012" y="552"/>
                  </a:cubicBezTo>
                  <a:cubicBezTo>
                    <a:pt x="1012" y="434"/>
                    <a:pt x="1012" y="115"/>
                    <a:pt x="1012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6"/>
            <p:cNvSpPr/>
            <p:nvPr/>
          </p:nvSpPr>
          <p:spPr>
            <a:xfrm flipH="1" flipV="1">
              <a:off x="8579880" y="3788640"/>
              <a:ext cx="84240" cy="107640"/>
            </a:xfrm>
            <a:custGeom>
              <a:avLst/>
              <a:gdLst/>
              <a:ahLst/>
              <a:rect l="l" t="t" r="r" b="b"/>
              <a:pathLst>
                <a:path w="2020" h="2594">
                  <a:moveTo>
                    <a:pt x="472" y="15"/>
                  </a:moveTo>
                  <a:cubicBezTo>
                    <a:pt x="472" y="107"/>
                    <a:pt x="477" y="387"/>
                    <a:pt x="472" y="552"/>
                  </a:cubicBezTo>
                  <a:cubicBezTo>
                    <a:pt x="467" y="717"/>
                    <a:pt x="480" y="887"/>
                    <a:pt x="442" y="1005"/>
                  </a:cubicBezTo>
                  <a:cubicBezTo>
                    <a:pt x="404" y="1123"/>
                    <a:pt x="302" y="1180"/>
                    <a:pt x="247" y="1260"/>
                  </a:cubicBezTo>
                  <a:cubicBezTo>
                    <a:pt x="192" y="1340"/>
                    <a:pt x="152" y="1398"/>
                    <a:pt x="112" y="1488"/>
                  </a:cubicBezTo>
                  <a:cubicBezTo>
                    <a:pt x="72" y="1578"/>
                    <a:pt x="14" y="1706"/>
                    <a:pt x="7" y="1800"/>
                  </a:cubicBezTo>
                  <a:cubicBezTo>
                    <a:pt x="0" y="1894"/>
                    <a:pt x="25" y="1968"/>
                    <a:pt x="67" y="2055"/>
                  </a:cubicBezTo>
                  <a:cubicBezTo>
                    <a:pt x="109" y="2142"/>
                    <a:pt x="165" y="2245"/>
                    <a:pt x="262" y="2325"/>
                  </a:cubicBezTo>
                  <a:cubicBezTo>
                    <a:pt x="359" y="2405"/>
                    <a:pt x="515" y="2498"/>
                    <a:pt x="652" y="2535"/>
                  </a:cubicBezTo>
                  <a:cubicBezTo>
                    <a:pt x="789" y="2572"/>
                    <a:pt x="937" y="2594"/>
                    <a:pt x="1087" y="2550"/>
                  </a:cubicBezTo>
                  <a:cubicBezTo>
                    <a:pt x="1237" y="2506"/>
                    <a:pt x="1440" y="2366"/>
                    <a:pt x="1552" y="2268"/>
                  </a:cubicBezTo>
                  <a:cubicBezTo>
                    <a:pt x="1664" y="2170"/>
                    <a:pt x="1702" y="2069"/>
                    <a:pt x="1762" y="1965"/>
                  </a:cubicBezTo>
                  <a:cubicBezTo>
                    <a:pt x="1822" y="1861"/>
                    <a:pt x="1872" y="1759"/>
                    <a:pt x="1912" y="1644"/>
                  </a:cubicBezTo>
                  <a:cubicBezTo>
                    <a:pt x="1952" y="1529"/>
                    <a:pt x="2020" y="1309"/>
                    <a:pt x="2002" y="1275"/>
                  </a:cubicBezTo>
                  <a:cubicBezTo>
                    <a:pt x="1984" y="1241"/>
                    <a:pt x="1874" y="1355"/>
                    <a:pt x="1807" y="1440"/>
                  </a:cubicBezTo>
                  <a:cubicBezTo>
                    <a:pt x="1740" y="1525"/>
                    <a:pt x="1669" y="1690"/>
                    <a:pt x="1597" y="1785"/>
                  </a:cubicBezTo>
                  <a:cubicBezTo>
                    <a:pt x="1525" y="1880"/>
                    <a:pt x="1442" y="1953"/>
                    <a:pt x="1372" y="2010"/>
                  </a:cubicBezTo>
                  <a:cubicBezTo>
                    <a:pt x="1302" y="2067"/>
                    <a:pt x="1257" y="2113"/>
                    <a:pt x="1177" y="2130"/>
                  </a:cubicBezTo>
                  <a:cubicBezTo>
                    <a:pt x="1097" y="2147"/>
                    <a:pt x="982" y="2147"/>
                    <a:pt x="892" y="2115"/>
                  </a:cubicBezTo>
                  <a:cubicBezTo>
                    <a:pt x="802" y="2083"/>
                    <a:pt x="677" y="2022"/>
                    <a:pt x="637" y="1935"/>
                  </a:cubicBezTo>
                  <a:cubicBezTo>
                    <a:pt x="597" y="1848"/>
                    <a:pt x="612" y="1702"/>
                    <a:pt x="652" y="1590"/>
                  </a:cubicBezTo>
                  <a:cubicBezTo>
                    <a:pt x="692" y="1478"/>
                    <a:pt x="817" y="1355"/>
                    <a:pt x="877" y="1260"/>
                  </a:cubicBezTo>
                  <a:cubicBezTo>
                    <a:pt x="937" y="1165"/>
                    <a:pt x="990" y="1112"/>
                    <a:pt x="1012" y="1020"/>
                  </a:cubicBezTo>
                  <a:cubicBezTo>
                    <a:pt x="1034" y="928"/>
                    <a:pt x="1012" y="786"/>
                    <a:pt x="1012" y="708"/>
                  </a:cubicBezTo>
                  <a:cubicBezTo>
                    <a:pt x="1012" y="630"/>
                    <a:pt x="1012" y="670"/>
                    <a:pt x="1012" y="552"/>
                  </a:cubicBezTo>
                  <a:cubicBezTo>
                    <a:pt x="1012" y="434"/>
                    <a:pt x="1012" y="115"/>
                    <a:pt x="1012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7"/>
            <p:cNvSpPr/>
            <p:nvPr/>
          </p:nvSpPr>
          <p:spPr>
            <a:xfrm>
              <a:off x="8486640" y="3886920"/>
              <a:ext cx="287640" cy="18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c0c0c0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xjhlx13"/>
          <p:cNvGrpSpPr/>
          <p:nvPr/>
        </p:nvGrpSpPr>
        <p:grpSpPr>
          <a:xfrm>
            <a:off x="8083440" y="4238280"/>
            <a:ext cx="287280" cy="373320"/>
            <a:chOff x="8083440" y="4238280"/>
            <a:chExt cx="287280" cy="373320"/>
          </a:xfrm>
        </p:grpSpPr>
        <p:sp>
          <p:nvSpPr>
            <p:cNvPr id="234" name="Freeform 135"/>
            <p:cNvSpPr/>
            <p:nvPr/>
          </p:nvSpPr>
          <p:spPr>
            <a:xfrm>
              <a:off x="8192880" y="4503960"/>
              <a:ext cx="83880" cy="107640"/>
            </a:xfrm>
            <a:custGeom>
              <a:avLst/>
              <a:gdLst/>
              <a:ahLst/>
              <a:rect l="l" t="t" r="r" b="b"/>
              <a:pathLst>
                <a:path w="2020" h="2594">
                  <a:moveTo>
                    <a:pt x="472" y="15"/>
                  </a:moveTo>
                  <a:cubicBezTo>
                    <a:pt x="472" y="107"/>
                    <a:pt x="477" y="387"/>
                    <a:pt x="472" y="552"/>
                  </a:cubicBezTo>
                  <a:cubicBezTo>
                    <a:pt x="467" y="717"/>
                    <a:pt x="480" y="887"/>
                    <a:pt x="442" y="1005"/>
                  </a:cubicBezTo>
                  <a:cubicBezTo>
                    <a:pt x="404" y="1123"/>
                    <a:pt x="302" y="1180"/>
                    <a:pt x="247" y="1260"/>
                  </a:cubicBezTo>
                  <a:cubicBezTo>
                    <a:pt x="192" y="1340"/>
                    <a:pt x="152" y="1398"/>
                    <a:pt x="112" y="1488"/>
                  </a:cubicBezTo>
                  <a:cubicBezTo>
                    <a:pt x="72" y="1578"/>
                    <a:pt x="14" y="1706"/>
                    <a:pt x="7" y="1800"/>
                  </a:cubicBezTo>
                  <a:cubicBezTo>
                    <a:pt x="0" y="1894"/>
                    <a:pt x="25" y="1968"/>
                    <a:pt x="67" y="2055"/>
                  </a:cubicBezTo>
                  <a:cubicBezTo>
                    <a:pt x="109" y="2142"/>
                    <a:pt x="165" y="2245"/>
                    <a:pt x="262" y="2325"/>
                  </a:cubicBezTo>
                  <a:cubicBezTo>
                    <a:pt x="359" y="2405"/>
                    <a:pt x="515" y="2498"/>
                    <a:pt x="652" y="2535"/>
                  </a:cubicBezTo>
                  <a:cubicBezTo>
                    <a:pt x="789" y="2572"/>
                    <a:pt x="937" y="2594"/>
                    <a:pt x="1087" y="2550"/>
                  </a:cubicBezTo>
                  <a:cubicBezTo>
                    <a:pt x="1237" y="2506"/>
                    <a:pt x="1440" y="2366"/>
                    <a:pt x="1552" y="2268"/>
                  </a:cubicBezTo>
                  <a:cubicBezTo>
                    <a:pt x="1664" y="2170"/>
                    <a:pt x="1702" y="2069"/>
                    <a:pt x="1762" y="1965"/>
                  </a:cubicBezTo>
                  <a:cubicBezTo>
                    <a:pt x="1822" y="1861"/>
                    <a:pt x="1872" y="1759"/>
                    <a:pt x="1912" y="1644"/>
                  </a:cubicBezTo>
                  <a:cubicBezTo>
                    <a:pt x="1952" y="1529"/>
                    <a:pt x="2020" y="1309"/>
                    <a:pt x="2002" y="1275"/>
                  </a:cubicBezTo>
                  <a:cubicBezTo>
                    <a:pt x="1984" y="1241"/>
                    <a:pt x="1874" y="1355"/>
                    <a:pt x="1807" y="1440"/>
                  </a:cubicBezTo>
                  <a:cubicBezTo>
                    <a:pt x="1740" y="1525"/>
                    <a:pt x="1669" y="1690"/>
                    <a:pt x="1597" y="1785"/>
                  </a:cubicBezTo>
                  <a:cubicBezTo>
                    <a:pt x="1525" y="1880"/>
                    <a:pt x="1442" y="1953"/>
                    <a:pt x="1372" y="2010"/>
                  </a:cubicBezTo>
                  <a:cubicBezTo>
                    <a:pt x="1302" y="2067"/>
                    <a:pt x="1257" y="2113"/>
                    <a:pt x="1177" y="2130"/>
                  </a:cubicBezTo>
                  <a:cubicBezTo>
                    <a:pt x="1097" y="2147"/>
                    <a:pt x="982" y="2147"/>
                    <a:pt x="892" y="2115"/>
                  </a:cubicBezTo>
                  <a:cubicBezTo>
                    <a:pt x="802" y="2083"/>
                    <a:pt x="677" y="2022"/>
                    <a:pt x="637" y="1935"/>
                  </a:cubicBezTo>
                  <a:cubicBezTo>
                    <a:pt x="597" y="1848"/>
                    <a:pt x="612" y="1702"/>
                    <a:pt x="652" y="1590"/>
                  </a:cubicBezTo>
                  <a:cubicBezTo>
                    <a:pt x="692" y="1478"/>
                    <a:pt x="817" y="1355"/>
                    <a:pt x="877" y="1260"/>
                  </a:cubicBezTo>
                  <a:cubicBezTo>
                    <a:pt x="937" y="1165"/>
                    <a:pt x="990" y="1112"/>
                    <a:pt x="1012" y="1020"/>
                  </a:cubicBezTo>
                  <a:cubicBezTo>
                    <a:pt x="1034" y="928"/>
                    <a:pt x="1012" y="786"/>
                    <a:pt x="1012" y="708"/>
                  </a:cubicBezTo>
                  <a:cubicBezTo>
                    <a:pt x="1012" y="630"/>
                    <a:pt x="1012" y="670"/>
                    <a:pt x="1012" y="552"/>
                  </a:cubicBezTo>
                  <a:cubicBezTo>
                    <a:pt x="1012" y="434"/>
                    <a:pt x="1012" y="115"/>
                    <a:pt x="1012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36"/>
            <p:cNvSpPr/>
            <p:nvPr/>
          </p:nvSpPr>
          <p:spPr>
            <a:xfrm flipH="1" flipV="1">
              <a:off x="8175960" y="4237920"/>
              <a:ext cx="83880" cy="107640"/>
            </a:xfrm>
            <a:custGeom>
              <a:avLst/>
              <a:gdLst/>
              <a:ahLst/>
              <a:rect l="l" t="t" r="r" b="b"/>
              <a:pathLst>
                <a:path w="2020" h="2594">
                  <a:moveTo>
                    <a:pt x="472" y="15"/>
                  </a:moveTo>
                  <a:cubicBezTo>
                    <a:pt x="472" y="107"/>
                    <a:pt x="477" y="387"/>
                    <a:pt x="472" y="552"/>
                  </a:cubicBezTo>
                  <a:cubicBezTo>
                    <a:pt x="467" y="717"/>
                    <a:pt x="480" y="887"/>
                    <a:pt x="442" y="1005"/>
                  </a:cubicBezTo>
                  <a:cubicBezTo>
                    <a:pt x="404" y="1123"/>
                    <a:pt x="302" y="1180"/>
                    <a:pt x="247" y="1260"/>
                  </a:cubicBezTo>
                  <a:cubicBezTo>
                    <a:pt x="192" y="1340"/>
                    <a:pt x="152" y="1398"/>
                    <a:pt x="112" y="1488"/>
                  </a:cubicBezTo>
                  <a:cubicBezTo>
                    <a:pt x="72" y="1578"/>
                    <a:pt x="14" y="1706"/>
                    <a:pt x="7" y="1800"/>
                  </a:cubicBezTo>
                  <a:cubicBezTo>
                    <a:pt x="0" y="1894"/>
                    <a:pt x="25" y="1968"/>
                    <a:pt x="67" y="2055"/>
                  </a:cubicBezTo>
                  <a:cubicBezTo>
                    <a:pt x="109" y="2142"/>
                    <a:pt x="165" y="2245"/>
                    <a:pt x="262" y="2325"/>
                  </a:cubicBezTo>
                  <a:cubicBezTo>
                    <a:pt x="359" y="2405"/>
                    <a:pt x="515" y="2498"/>
                    <a:pt x="652" y="2535"/>
                  </a:cubicBezTo>
                  <a:cubicBezTo>
                    <a:pt x="789" y="2572"/>
                    <a:pt x="937" y="2594"/>
                    <a:pt x="1087" y="2550"/>
                  </a:cubicBezTo>
                  <a:cubicBezTo>
                    <a:pt x="1237" y="2506"/>
                    <a:pt x="1440" y="2366"/>
                    <a:pt x="1552" y="2268"/>
                  </a:cubicBezTo>
                  <a:cubicBezTo>
                    <a:pt x="1664" y="2170"/>
                    <a:pt x="1702" y="2069"/>
                    <a:pt x="1762" y="1965"/>
                  </a:cubicBezTo>
                  <a:cubicBezTo>
                    <a:pt x="1822" y="1861"/>
                    <a:pt x="1872" y="1759"/>
                    <a:pt x="1912" y="1644"/>
                  </a:cubicBezTo>
                  <a:cubicBezTo>
                    <a:pt x="1952" y="1529"/>
                    <a:pt x="2020" y="1309"/>
                    <a:pt x="2002" y="1275"/>
                  </a:cubicBezTo>
                  <a:cubicBezTo>
                    <a:pt x="1984" y="1241"/>
                    <a:pt x="1874" y="1355"/>
                    <a:pt x="1807" y="1440"/>
                  </a:cubicBezTo>
                  <a:cubicBezTo>
                    <a:pt x="1740" y="1525"/>
                    <a:pt x="1669" y="1690"/>
                    <a:pt x="1597" y="1785"/>
                  </a:cubicBezTo>
                  <a:cubicBezTo>
                    <a:pt x="1525" y="1880"/>
                    <a:pt x="1442" y="1953"/>
                    <a:pt x="1372" y="2010"/>
                  </a:cubicBezTo>
                  <a:cubicBezTo>
                    <a:pt x="1302" y="2067"/>
                    <a:pt x="1257" y="2113"/>
                    <a:pt x="1177" y="2130"/>
                  </a:cubicBezTo>
                  <a:cubicBezTo>
                    <a:pt x="1097" y="2147"/>
                    <a:pt x="982" y="2147"/>
                    <a:pt x="892" y="2115"/>
                  </a:cubicBezTo>
                  <a:cubicBezTo>
                    <a:pt x="802" y="2083"/>
                    <a:pt x="677" y="2022"/>
                    <a:pt x="637" y="1935"/>
                  </a:cubicBezTo>
                  <a:cubicBezTo>
                    <a:pt x="597" y="1848"/>
                    <a:pt x="612" y="1702"/>
                    <a:pt x="652" y="1590"/>
                  </a:cubicBezTo>
                  <a:cubicBezTo>
                    <a:pt x="692" y="1478"/>
                    <a:pt x="817" y="1355"/>
                    <a:pt x="877" y="1260"/>
                  </a:cubicBezTo>
                  <a:cubicBezTo>
                    <a:pt x="937" y="1165"/>
                    <a:pt x="990" y="1112"/>
                    <a:pt x="1012" y="1020"/>
                  </a:cubicBezTo>
                  <a:cubicBezTo>
                    <a:pt x="1034" y="928"/>
                    <a:pt x="1012" y="786"/>
                    <a:pt x="1012" y="708"/>
                  </a:cubicBezTo>
                  <a:cubicBezTo>
                    <a:pt x="1012" y="630"/>
                    <a:pt x="1012" y="670"/>
                    <a:pt x="1012" y="552"/>
                  </a:cubicBezTo>
                  <a:cubicBezTo>
                    <a:pt x="1012" y="434"/>
                    <a:pt x="1012" y="115"/>
                    <a:pt x="1012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7"/>
            <p:cNvSpPr/>
            <p:nvPr/>
          </p:nvSpPr>
          <p:spPr>
            <a:xfrm>
              <a:off x="8083440" y="4336200"/>
              <a:ext cx="287280" cy="18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c0c0c0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xjhlx13"/>
          <p:cNvGrpSpPr/>
          <p:nvPr/>
        </p:nvGrpSpPr>
        <p:grpSpPr>
          <a:xfrm>
            <a:off x="8532720" y="4238280"/>
            <a:ext cx="287280" cy="373320"/>
            <a:chOff x="8532720" y="4238280"/>
            <a:chExt cx="287280" cy="373320"/>
          </a:xfrm>
        </p:grpSpPr>
        <p:sp>
          <p:nvSpPr>
            <p:cNvPr id="238" name="Freeform 135"/>
            <p:cNvSpPr/>
            <p:nvPr/>
          </p:nvSpPr>
          <p:spPr>
            <a:xfrm>
              <a:off x="8642160" y="4503960"/>
              <a:ext cx="83880" cy="107640"/>
            </a:xfrm>
            <a:custGeom>
              <a:avLst/>
              <a:gdLst/>
              <a:ahLst/>
              <a:rect l="l" t="t" r="r" b="b"/>
              <a:pathLst>
                <a:path w="2020" h="2594">
                  <a:moveTo>
                    <a:pt x="472" y="15"/>
                  </a:moveTo>
                  <a:cubicBezTo>
                    <a:pt x="472" y="107"/>
                    <a:pt x="477" y="387"/>
                    <a:pt x="472" y="552"/>
                  </a:cubicBezTo>
                  <a:cubicBezTo>
                    <a:pt x="467" y="717"/>
                    <a:pt x="480" y="887"/>
                    <a:pt x="442" y="1005"/>
                  </a:cubicBezTo>
                  <a:cubicBezTo>
                    <a:pt x="404" y="1123"/>
                    <a:pt x="302" y="1180"/>
                    <a:pt x="247" y="1260"/>
                  </a:cubicBezTo>
                  <a:cubicBezTo>
                    <a:pt x="192" y="1340"/>
                    <a:pt x="152" y="1398"/>
                    <a:pt x="112" y="1488"/>
                  </a:cubicBezTo>
                  <a:cubicBezTo>
                    <a:pt x="72" y="1578"/>
                    <a:pt x="14" y="1706"/>
                    <a:pt x="7" y="1800"/>
                  </a:cubicBezTo>
                  <a:cubicBezTo>
                    <a:pt x="0" y="1894"/>
                    <a:pt x="25" y="1968"/>
                    <a:pt x="67" y="2055"/>
                  </a:cubicBezTo>
                  <a:cubicBezTo>
                    <a:pt x="109" y="2142"/>
                    <a:pt x="165" y="2245"/>
                    <a:pt x="262" y="2325"/>
                  </a:cubicBezTo>
                  <a:cubicBezTo>
                    <a:pt x="359" y="2405"/>
                    <a:pt x="515" y="2498"/>
                    <a:pt x="652" y="2535"/>
                  </a:cubicBezTo>
                  <a:cubicBezTo>
                    <a:pt x="789" y="2572"/>
                    <a:pt x="937" y="2594"/>
                    <a:pt x="1087" y="2550"/>
                  </a:cubicBezTo>
                  <a:cubicBezTo>
                    <a:pt x="1237" y="2506"/>
                    <a:pt x="1440" y="2366"/>
                    <a:pt x="1552" y="2268"/>
                  </a:cubicBezTo>
                  <a:cubicBezTo>
                    <a:pt x="1664" y="2170"/>
                    <a:pt x="1702" y="2069"/>
                    <a:pt x="1762" y="1965"/>
                  </a:cubicBezTo>
                  <a:cubicBezTo>
                    <a:pt x="1822" y="1861"/>
                    <a:pt x="1872" y="1759"/>
                    <a:pt x="1912" y="1644"/>
                  </a:cubicBezTo>
                  <a:cubicBezTo>
                    <a:pt x="1952" y="1529"/>
                    <a:pt x="2020" y="1309"/>
                    <a:pt x="2002" y="1275"/>
                  </a:cubicBezTo>
                  <a:cubicBezTo>
                    <a:pt x="1984" y="1241"/>
                    <a:pt x="1874" y="1355"/>
                    <a:pt x="1807" y="1440"/>
                  </a:cubicBezTo>
                  <a:cubicBezTo>
                    <a:pt x="1740" y="1525"/>
                    <a:pt x="1669" y="1690"/>
                    <a:pt x="1597" y="1785"/>
                  </a:cubicBezTo>
                  <a:cubicBezTo>
                    <a:pt x="1525" y="1880"/>
                    <a:pt x="1442" y="1953"/>
                    <a:pt x="1372" y="2010"/>
                  </a:cubicBezTo>
                  <a:cubicBezTo>
                    <a:pt x="1302" y="2067"/>
                    <a:pt x="1257" y="2113"/>
                    <a:pt x="1177" y="2130"/>
                  </a:cubicBezTo>
                  <a:cubicBezTo>
                    <a:pt x="1097" y="2147"/>
                    <a:pt x="982" y="2147"/>
                    <a:pt x="892" y="2115"/>
                  </a:cubicBezTo>
                  <a:cubicBezTo>
                    <a:pt x="802" y="2083"/>
                    <a:pt x="677" y="2022"/>
                    <a:pt x="637" y="1935"/>
                  </a:cubicBezTo>
                  <a:cubicBezTo>
                    <a:pt x="597" y="1848"/>
                    <a:pt x="612" y="1702"/>
                    <a:pt x="652" y="1590"/>
                  </a:cubicBezTo>
                  <a:cubicBezTo>
                    <a:pt x="692" y="1478"/>
                    <a:pt x="817" y="1355"/>
                    <a:pt x="877" y="1260"/>
                  </a:cubicBezTo>
                  <a:cubicBezTo>
                    <a:pt x="937" y="1165"/>
                    <a:pt x="990" y="1112"/>
                    <a:pt x="1012" y="1020"/>
                  </a:cubicBezTo>
                  <a:cubicBezTo>
                    <a:pt x="1034" y="928"/>
                    <a:pt x="1012" y="786"/>
                    <a:pt x="1012" y="708"/>
                  </a:cubicBezTo>
                  <a:cubicBezTo>
                    <a:pt x="1012" y="630"/>
                    <a:pt x="1012" y="670"/>
                    <a:pt x="1012" y="552"/>
                  </a:cubicBezTo>
                  <a:cubicBezTo>
                    <a:pt x="1012" y="434"/>
                    <a:pt x="1012" y="115"/>
                    <a:pt x="1012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36"/>
            <p:cNvSpPr/>
            <p:nvPr/>
          </p:nvSpPr>
          <p:spPr>
            <a:xfrm flipH="1" flipV="1">
              <a:off x="8625240" y="4237920"/>
              <a:ext cx="83880" cy="107640"/>
            </a:xfrm>
            <a:custGeom>
              <a:avLst/>
              <a:gdLst/>
              <a:ahLst/>
              <a:rect l="l" t="t" r="r" b="b"/>
              <a:pathLst>
                <a:path w="2020" h="2594">
                  <a:moveTo>
                    <a:pt x="472" y="15"/>
                  </a:moveTo>
                  <a:cubicBezTo>
                    <a:pt x="472" y="107"/>
                    <a:pt x="477" y="387"/>
                    <a:pt x="472" y="552"/>
                  </a:cubicBezTo>
                  <a:cubicBezTo>
                    <a:pt x="467" y="717"/>
                    <a:pt x="480" y="887"/>
                    <a:pt x="442" y="1005"/>
                  </a:cubicBezTo>
                  <a:cubicBezTo>
                    <a:pt x="404" y="1123"/>
                    <a:pt x="302" y="1180"/>
                    <a:pt x="247" y="1260"/>
                  </a:cubicBezTo>
                  <a:cubicBezTo>
                    <a:pt x="192" y="1340"/>
                    <a:pt x="152" y="1398"/>
                    <a:pt x="112" y="1488"/>
                  </a:cubicBezTo>
                  <a:cubicBezTo>
                    <a:pt x="72" y="1578"/>
                    <a:pt x="14" y="1706"/>
                    <a:pt x="7" y="1800"/>
                  </a:cubicBezTo>
                  <a:cubicBezTo>
                    <a:pt x="0" y="1894"/>
                    <a:pt x="25" y="1968"/>
                    <a:pt x="67" y="2055"/>
                  </a:cubicBezTo>
                  <a:cubicBezTo>
                    <a:pt x="109" y="2142"/>
                    <a:pt x="165" y="2245"/>
                    <a:pt x="262" y="2325"/>
                  </a:cubicBezTo>
                  <a:cubicBezTo>
                    <a:pt x="359" y="2405"/>
                    <a:pt x="515" y="2498"/>
                    <a:pt x="652" y="2535"/>
                  </a:cubicBezTo>
                  <a:cubicBezTo>
                    <a:pt x="789" y="2572"/>
                    <a:pt x="937" y="2594"/>
                    <a:pt x="1087" y="2550"/>
                  </a:cubicBezTo>
                  <a:cubicBezTo>
                    <a:pt x="1237" y="2506"/>
                    <a:pt x="1440" y="2366"/>
                    <a:pt x="1552" y="2268"/>
                  </a:cubicBezTo>
                  <a:cubicBezTo>
                    <a:pt x="1664" y="2170"/>
                    <a:pt x="1702" y="2069"/>
                    <a:pt x="1762" y="1965"/>
                  </a:cubicBezTo>
                  <a:cubicBezTo>
                    <a:pt x="1822" y="1861"/>
                    <a:pt x="1872" y="1759"/>
                    <a:pt x="1912" y="1644"/>
                  </a:cubicBezTo>
                  <a:cubicBezTo>
                    <a:pt x="1952" y="1529"/>
                    <a:pt x="2020" y="1309"/>
                    <a:pt x="2002" y="1275"/>
                  </a:cubicBezTo>
                  <a:cubicBezTo>
                    <a:pt x="1984" y="1241"/>
                    <a:pt x="1874" y="1355"/>
                    <a:pt x="1807" y="1440"/>
                  </a:cubicBezTo>
                  <a:cubicBezTo>
                    <a:pt x="1740" y="1525"/>
                    <a:pt x="1669" y="1690"/>
                    <a:pt x="1597" y="1785"/>
                  </a:cubicBezTo>
                  <a:cubicBezTo>
                    <a:pt x="1525" y="1880"/>
                    <a:pt x="1442" y="1953"/>
                    <a:pt x="1372" y="2010"/>
                  </a:cubicBezTo>
                  <a:cubicBezTo>
                    <a:pt x="1302" y="2067"/>
                    <a:pt x="1257" y="2113"/>
                    <a:pt x="1177" y="2130"/>
                  </a:cubicBezTo>
                  <a:cubicBezTo>
                    <a:pt x="1097" y="2147"/>
                    <a:pt x="982" y="2147"/>
                    <a:pt x="892" y="2115"/>
                  </a:cubicBezTo>
                  <a:cubicBezTo>
                    <a:pt x="802" y="2083"/>
                    <a:pt x="677" y="2022"/>
                    <a:pt x="637" y="1935"/>
                  </a:cubicBezTo>
                  <a:cubicBezTo>
                    <a:pt x="597" y="1848"/>
                    <a:pt x="612" y="1702"/>
                    <a:pt x="652" y="1590"/>
                  </a:cubicBezTo>
                  <a:cubicBezTo>
                    <a:pt x="692" y="1478"/>
                    <a:pt x="817" y="1355"/>
                    <a:pt x="877" y="1260"/>
                  </a:cubicBezTo>
                  <a:cubicBezTo>
                    <a:pt x="937" y="1165"/>
                    <a:pt x="990" y="1112"/>
                    <a:pt x="1012" y="1020"/>
                  </a:cubicBezTo>
                  <a:cubicBezTo>
                    <a:pt x="1034" y="928"/>
                    <a:pt x="1012" y="786"/>
                    <a:pt x="1012" y="708"/>
                  </a:cubicBezTo>
                  <a:cubicBezTo>
                    <a:pt x="1012" y="630"/>
                    <a:pt x="1012" y="670"/>
                    <a:pt x="1012" y="552"/>
                  </a:cubicBezTo>
                  <a:cubicBezTo>
                    <a:pt x="1012" y="434"/>
                    <a:pt x="1012" y="115"/>
                    <a:pt x="1012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7"/>
            <p:cNvSpPr/>
            <p:nvPr/>
          </p:nvSpPr>
          <p:spPr>
            <a:xfrm>
              <a:off x="8532720" y="4336200"/>
              <a:ext cx="287280" cy="18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c0c0c0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对象 11383" descr=""/>
          <p:cNvPicPr/>
          <p:nvPr/>
        </p:nvPicPr>
        <p:blipFill>
          <a:blip r:embed="rId1"/>
          <a:stretch/>
        </p:blipFill>
        <p:spPr>
          <a:xfrm>
            <a:off x="6958080" y="2349360"/>
            <a:ext cx="342720" cy="40500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736640" y="2349360"/>
          <a:ext cx="6983280" cy="2065320"/>
        </p:xfrm>
        <a:graphic>
          <a:graphicData uri="http://schemas.openxmlformats.org/drawingml/2006/table">
            <a:tbl>
              <a:tblPr/>
              <a:tblGrid>
                <a:gridCol w="431640"/>
                <a:gridCol w="900360"/>
                <a:gridCol w="900000"/>
                <a:gridCol w="790560"/>
                <a:gridCol w="792360"/>
                <a:gridCol w="1081080"/>
                <a:gridCol w="1104840"/>
                <a:gridCol w="982440"/>
              </a:tblGrid>
              <a:tr h="703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G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F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s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W</a:t>
                      </a:r>
                      <a:r>
                        <a:rPr b="1" lang="zh-CN" sz="2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有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W</a:t>
                      </a:r>
                      <a:r>
                        <a:rPr b="1" lang="zh-CN" sz="2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总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8"/>
          <p:cNvSpPr/>
          <p:nvPr/>
        </p:nvSpPr>
        <p:spPr>
          <a:xfrm>
            <a:off x="2212920" y="828720"/>
            <a:ext cx="6031080" cy="115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实验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保持钩码重力一定，改变动滑轮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1692360" y="4915080"/>
            <a:ext cx="706572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结论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物重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一定，动滑轮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越重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机械效率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越低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2613"/>
          <p:cNvGrpSpPr/>
          <p:nvPr/>
        </p:nvGrpSpPr>
        <p:grpSpPr>
          <a:xfrm>
            <a:off x="385560" y="3654360"/>
            <a:ext cx="974880" cy="2878560"/>
            <a:chOff x="385560" y="3654360"/>
            <a:chExt cx="974880" cy="2878560"/>
          </a:xfrm>
        </p:grpSpPr>
        <p:sp>
          <p:nvSpPr>
            <p:cNvPr id="247" name="Text Box 234"/>
            <p:cNvSpPr/>
            <p:nvPr/>
          </p:nvSpPr>
          <p:spPr>
            <a:xfrm>
              <a:off x="1015920" y="4419360"/>
              <a:ext cx="3445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组合 12611"/>
            <p:cNvGrpSpPr/>
            <p:nvPr/>
          </p:nvGrpSpPr>
          <p:grpSpPr>
            <a:xfrm>
              <a:off x="385560" y="3654360"/>
              <a:ext cx="765000" cy="2878560"/>
              <a:chOff x="385560" y="3654360"/>
              <a:chExt cx="765000" cy="2878560"/>
            </a:xfrm>
          </p:grpSpPr>
          <p:grpSp>
            <p:nvGrpSpPr>
              <p:cNvPr id="249" name="组合 12610"/>
              <p:cNvGrpSpPr/>
              <p:nvPr/>
            </p:nvGrpSpPr>
            <p:grpSpPr>
              <a:xfrm>
                <a:off x="628920" y="5814360"/>
                <a:ext cx="311040" cy="718560"/>
                <a:chOff x="628920" y="5814360"/>
                <a:chExt cx="311040" cy="718560"/>
              </a:xfrm>
            </p:grpSpPr>
            <p:grpSp>
              <p:nvGrpSpPr>
                <p:cNvPr id="250" name="xjhlx13"/>
                <p:cNvGrpSpPr/>
                <p:nvPr/>
              </p:nvGrpSpPr>
              <p:grpSpPr>
                <a:xfrm>
                  <a:off x="628920" y="6153840"/>
                  <a:ext cx="304920" cy="379080"/>
                  <a:chOff x="628920" y="6153840"/>
                  <a:chExt cx="304920" cy="379080"/>
                </a:xfrm>
              </p:grpSpPr>
              <p:sp>
                <p:nvSpPr>
                  <p:cNvPr id="251" name="Freeform 223"/>
                  <p:cNvSpPr/>
                  <p:nvPr/>
                </p:nvSpPr>
                <p:spPr>
                  <a:xfrm>
                    <a:off x="745200" y="6423480"/>
                    <a:ext cx="892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224"/>
                  <p:cNvSpPr/>
                  <p:nvPr/>
                </p:nvSpPr>
                <p:spPr>
                  <a:xfrm flipH="1" flipV="1">
                    <a:off x="727920" y="6153840"/>
                    <a:ext cx="892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Rectangle 225"/>
                  <p:cNvSpPr/>
                  <p:nvPr/>
                </p:nvSpPr>
                <p:spPr>
                  <a:xfrm>
                    <a:off x="628920" y="6253200"/>
                    <a:ext cx="304920" cy="19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c0c0c0"/>
                      </a:gs>
                      <a:gs pos="100000">
                        <a:srgbClr val="333333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xjhlx13"/>
                <p:cNvGrpSpPr/>
                <p:nvPr/>
              </p:nvGrpSpPr>
              <p:grpSpPr>
                <a:xfrm>
                  <a:off x="645120" y="5814360"/>
                  <a:ext cx="294840" cy="378360"/>
                  <a:chOff x="645120" y="5814360"/>
                  <a:chExt cx="294840" cy="378360"/>
                </a:xfrm>
              </p:grpSpPr>
              <p:sp>
                <p:nvSpPr>
                  <p:cNvPr id="255" name="Freeform 227"/>
                  <p:cNvSpPr/>
                  <p:nvPr/>
                </p:nvSpPr>
                <p:spPr>
                  <a:xfrm>
                    <a:off x="757440" y="6083640"/>
                    <a:ext cx="8604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228"/>
                  <p:cNvSpPr/>
                  <p:nvPr/>
                </p:nvSpPr>
                <p:spPr>
                  <a:xfrm flipH="1" flipV="1">
                    <a:off x="740160" y="5814000"/>
                    <a:ext cx="8604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Rectangle 229"/>
                  <p:cNvSpPr/>
                  <p:nvPr/>
                </p:nvSpPr>
                <p:spPr>
                  <a:xfrm>
                    <a:off x="645120" y="5913720"/>
                    <a:ext cx="294840" cy="191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c0c0c0"/>
                      </a:gs>
                      <a:gs pos="100000">
                        <a:srgbClr val="333333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8" name="组合 12609"/>
              <p:cNvGrpSpPr/>
              <p:nvPr/>
            </p:nvGrpSpPr>
            <p:grpSpPr>
              <a:xfrm>
                <a:off x="385560" y="3654360"/>
                <a:ext cx="765000" cy="2196720"/>
                <a:chOff x="385560" y="3654360"/>
                <a:chExt cx="765000" cy="2196720"/>
              </a:xfrm>
            </p:grpSpPr>
            <p:sp>
              <p:nvSpPr>
                <p:cNvPr id="259" name="Line 230"/>
                <p:cNvSpPr/>
                <p:nvPr/>
              </p:nvSpPr>
              <p:spPr>
                <a:xfrm flipH="1">
                  <a:off x="592920" y="4547160"/>
                  <a:ext cx="166680" cy="514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31"/>
                <p:cNvSpPr/>
                <p:nvPr/>
              </p:nvSpPr>
              <p:spPr>
                <a:xfrm flipH="1">
                  <a:off x="893160" y="4135320"/>
                  <a:ext cx="77400" cy="99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32"/>
                <p:cNvSpPr/>
                <p:nvPr/>
              </p:nvSpPr>
              <p:spPr>
                <a:xfrm flipH="1">
                  <a:off x="558360" y="4065840"/>
                  <a:ext cx="34200" cy="1407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33"/>
                <p:cNvSpPr/>
                <p:nvPr/>
              </p:nvSpPr>
              <p:spPr>
                <a:xfrm flipV="1">
                  <a:off x="959760" y="4719600"/>
                  <a:ext cx="67320" cy="75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" name="Group 235"/>
                <p:cNvGrpSpPr/>
                <p:nvPr/>
              </p:nvGrpSpPr>
              <p:grpSpPr>
                <a:xfrm>
                  <a:off x="385560" y="3654360"/>
                  <a:ext cx="765000" cy="39600"/>
                  <a:chOff x="385560" y="3654360"/>
                  <a:chExt cx="765000" cy="39600"/>
                </a:xfrm>
              </p:grpSpPr>
              <p:sp>
                <p:nvSpPr>
                  <p:cNvPr id="264" name="Line 236"/>
                  <p:cNvSpPr/>
                  <p:nvPr/>
                </p:nvSpPr>
                <p:spPr>
                  <a:xfrm flipH="1" flipV="1">
                    <a:off x="385560" y="3654360"/>
                    <a:ext cx="127080" cy="3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237"/>
                  <p:cNvSpPr/>
                  <p:nvPr/>
                </p:nvSpPr>
                <p:spPr>
                  <a:xfrm flipH="1" flipV="1">
                    <a:off x="512640" y="3654360"/>
                    <a:ext cx="127800" cy="3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38"/>
                  <p:cNvSpPr/>
                  <p:nvPr/>
                </p:nvSpPr>
                <p:spPr>
                  <a:xfrm flipH="1" flipV="1">
                    <a:off x="640440" y="3654360"/>
                    <a:ext cx="127080" cy="3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39"/>
                  <p:cNvSpPr/>
                  <p:nvPr/>
                </p:nvSpPr>
                <p:spPr>
                  <a:xfrm flipH="1" flipV="1">
                    <a:off x="767880" y="3654360"/>
                    <a:ext cx="127080" cy="3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240"/>
                  <p:cNvSpPr/>
                  <p:nvPr/>
                </p:nvSpPr>
                <p:spPr>
                  <a:xfrm flipH="1" flipV="1">
                    <a:off x="894960" y="3654360"/>
                    <a:ext cx="127080" cy="3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241"/>
                  <p:cNvSpPr/>
                  <p:nvPr/>
                </p:nvSpPr>
                <p:spPr>
                  <a:xfrm flipH="1" flipV="1">
                    <a:off x="1022400" y="3654360"/>
                    <a:ext cx="128160" cy="3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242"/>
                  <p:cNvSpPr/>
                  <p:nvPr/>
                </p:nvSpPr>
                <p:spPr>
                  <a:xfrm>
                    <a:off x="410040" y="3693960"/>
                    <a:ext cx="739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组合 12608"/>
                <p:cNvGrpSpPr/>
                <p:nvPr/>
              </p:nvGrpSpPr>
              <p:grpSpPr>
                <a:xfrm>
                  <a:off x="546120" y="4782960"/>
                  <a:ext cx="423360" cy="1068120"/>
                  <a:chOff x="546120" y="4782960"/>
                  <a:chExt cx="423360" cy="1068120"/>
                </a:xfrm>
              </p:grpSpPr>
              <p:sp>
                <p:nvSpPr>
                  <p:cNvPr id="272" name="Freeform 250"/>
                  <p:cNvSpPr/>
                  <p:nvPr/>
                </p:nvSpPr>
                <p:spPr>
                  <a:xfrm flipV="1" rot="21325800">
                    <a:off x="731520" y="4786560"/>
                    <a:ext cx="9756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3" name="xjhlx8"/>
                  <p:cNvGrpSpPr/>
                  <p:nvPr/>
                </p:nvGrpSpPr>
                <p:grpSpPr>
                  <a:xfrm>
                    <a:off x="601560" y="4947480"/>
                    <a:ext cx="312840" cy="422280"/>
                    <a:chOff x="601560" y="4947480"/>
                    <a:chExt cx="312840" cy="422280"/>
                  </a:xfrm>
                </p:grpSpPr>
                <p:grpSp>
                  <p:nvGrpSpPr>
                    <p:cNvPr id="274" name="Group 197"/>
                    <p:cNvGrpSpPr/>
                    <p:nvPr/>
                  </p:nvGrpSpPr>
                  <p:grpSpPr>
                    <a:xfrm>
                      <a:off x="601560" y="4947480"/>
                      <a:ext cx="312840" cy="301320"/>
                      <a:chOff x="601560" y="4947480"/>
                      <a:chExt cx="312840" cy="301320"/>
                    </a:xfrm>
                  </p:grpSpPr>
                  <p:sp>
                    <p:nvSpPr>
                      <p:cNvPr id="275" name="Oval 198"/>
                      <p:cNvSpPr/>
                      <p:nvPr/>
                    </p:nvSpPr>
                    <p:spPr>
                      <a:xfrm flipH="1" rot="5400000">
                        <a:off x="606960" y="4941720"/>
                        <a:ext cx="301320" cy="312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8f8f8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Oval 199"/>
                      <p:cNvSpPr/>
                      <p:nvPr/>
                    </p:nvSpPr>
                    <p:spPr>
                      <a:xfrm flipH="1" rot="5400000">
                        <a:off x="649080" y="4984920"/>
                        <a:ext cx="217800" cy="226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000000"/>
                          </a:gs>
                        </a:gsLst>
                        <a:lin ang="27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Oval 200"/>
                      <p:cNvSpPr/>
                      <p:nvPr/>
                    </p:nvSpPr>
                    <p:spPr>
                      <a:xfrm flipH="1" rot="5400000">
                        <a:off x="691200" y="5028840"/>
                        <a:ext cx="133920" cy="1389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808080"/>
                          </a:gs>
                          <a:gs pos="100000">
                            <a:srgbClr val="969696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Oval 201"/>
                      <p:cNvSpPr/>
                      <p:nvPr/>
                    </p:nvSpPr>
                    <p:spPr>
                      <a:xfrm flipH="1" rot="5400000">
                        <a:off x="732600" y="5072040"/>
                        <a:ext cx="50040" cy="52200"/>
                      </a:xfrm>
                      <a:prstGeom prst="ellipse">
                        <a:avLst/>
                      </a:pr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9" name="Rectangle 202"/>
                    <p:cNvSpPr/>
                    <p:nvPr/>
                  </p:nvSpPr>
                  <p:spPr>
                    <a:xfrm flipH="1" rot="5400000">
                      <a:off x="613440" y="5199480"/>
                      <a:ext cx="288360" cy="52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 vert="eaVer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Group 204"/>
                  <p:cNvGrpSpPr/>
                  <p:nvPr/>
                </p:nvGrpSpPr>
                <p:grpSpPr>
                  <a:xfrm>
                    <a:off x="546120" y="5267520"/>
                    <a:ext cx="423360" cy="411480"/>
                    <a:chOff x="546120" y="5267520"/>
                    <a:chExt cx="423360" cy="411480"/>
                  </a:xfrm>
                </p:grpSpPr>
                <p:sp>
                  <p:nvSpPr>
                    <p:cNvPr id="281" name="Oval 205"/>
                    <p:cNvSpPr/>
                    <p:nvPr/>
                  </p:nvSpPr>
                  <p:spPr>
                    <a:xfrm>
                      <a:off x="546120" y="5267520"/>
                      <a:ext cx="423360" cy="411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Oval 206"/>
                    <p:cNvSpPr/>
                    <p:nvPr/>
                  </p:nvSpPr>
                  <p:spPr>
                    <a:xfrm>
                      <a:off x="604800" y="5324400"/>
                      <a:ext cx="305640" cy="297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Oval 207"/>
                    <p:cNvSpPr/>
                    <p:nvPr/>
                  </p:nvSpPr>
                  <p:spPr>
                    <a:xfrm>
                      <a:off x="663480" y="5381640"/>
                      <a:ext cx="187920" cy="182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Oval 208"/>
                    <p:cNvSpPr/>
                    <p:nvPr/>
                  </p:nvSpPr>
                  <p:spPr>
                    <a:xfrm>
                      <a:off x="722520" y="5438880"/>
                      <a:ext cx="70560" cy="6840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组合 12505"/>
                  <p:cNvGrpSpPr/>
                  <p:nvPr/>
                </p:nvGrpSpPr>
                <p:grpSpPr>
                  <a:xfrm>
                    <a:off x="699840" y="4889160"/>
                    <a:ext cx="129240" cy="961920"/>
                    <a:chOff x="699840" y="4889160"/>
                    <a:chExt cx="129240" cy="961920"/>
                  </a:xfrm>
                </p:grpSpPr>
                <p:sp>
                  <p:nvSpPr>
                    <p:cNvPr id="286" name="Freeform 210"/>
                    <p:cNvSpPr/>
                    <p:nvPr/>
                  </p:nvSpPr>
                  <p:spPr>
                    <a:xfrm>
                      <a:off x="731880" y="5718240"/>
                      <a:ext cx="87840" cy="13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Freeform 212"/>
                    <p:cNvSpPr/>
                    <p:nvPr/>
                  </p:nvSpPr>
                  <p:spPr>
                    <a:xfrm>
                      <a:off x="699840" y="5297400"/>
                      <a:ext cx="129240" cy="44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5" h="1180">
                          <a:moveTo>
                            <a:pt x="0" y="0"/>
                          </a:moveTo>
                          <a:lnTo>
                            <a:pt x="915" y="15"/>
                          </a:lnTo>
                          <a:lnTo>
                            <a:pt x="630" y="1180"/>
                          </a:lnTo>
                          <a:lnTo>
                            <a:pt x="270" y="115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13"/>
                    <p:cNvSpPr/>
                    <p:nvPr/>
                  </p:nvSpPr>
                  <p:spPr>
                    <a:xfrm>
                      <a:off x="735120" y="5435640"/>
                      <a:ext cx="61560" cy="58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214"/>
                    <p:cNvSpPr/>
                    <p:nvPr/>
                  </p:nvSpPr>
                  <p:spPr>
                    <a:xfrm>
                      <a:off x="728280" y="5671800"/>
                      <a:ext cx="61560" cy="58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Freeform 212"/>
                    <p:cNvSpPr/>
                    <p:nvPr/>
                  </p:nvSpPr>
                  <p:spPr>
                    <a:xfrm flipV="1">
                      <a:off x="699840" y="4889160"/>
                      <a:ext cx="129240" cy="44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5" h="1180">
                          <a:moveTo>
                            <a:pt x="0" y="0"/>
                          </a:moveTo>
                          <a:lnTo>
                            <a:pt x="915" y="15"/>
                          </a:lnTo>
                          <a:lnTo>
                            <a:pt x="630" y="1180"/>
                          </a:lnTo>
                          <a:lnTo>
                            <a:pt x="270" y="115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13"/>
                    <p:cNvSpPr/>
                    <p:nvPr/>
                  </p:nvSpPr>
                  <p:spPr>
                    <a:xfrm>
                      <a:off x="731880" y="5067360"/>
                      <a:ext cx="61560" cy="58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Oval 213"/>
                    <p:cNvSpPr/>
                    <p:nvPr/>
                  </p:nvSpPr>
                  <p:spPr>
                    <a:xfrm>
                      <a:off x="721440" y="4889160"/>
                      <a:ext cx="61560" cy="58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椭圆 12503"/>
                    <p:cNvSpPr/>
                    <p:nvPr/>
                  </p:nvSpPr>
                  <p:spPr>
                    <a:xfrm>
                      <a:off x="721440" y="5298480"/>
                      <a:ext cx="92520" cy="73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5b5b5b"/>
                        </a:gs>
                        <a:gs pos="50000">
                          <a:srgbClr val="969696"/>
                        </a:gs>
                        <a:gs pos="100000">
                          <a:srgbClr val="5b5b5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4" name="组合 12577"/>
                <p:cNvGrpSpPr/>
                <p:nvPr/>
              </p:nvGrpSpPr>
              <p:grpSpPr>
                <a:xfrm>
                  <a:off x="567720" y="3654360"/>
                  <a:ext cx="425880" cy="925560"/>
                  <a:chOff x="567720" y="3654360"/>
                  <a:chExt cx="425880" cy="925560"/>
                </a:xfrm>
              </p:grpSpPr>
              <p:grpSp>
                <p:nvGrpSpPr>
                  <p:cNvPr id="295" name="组合 12548"/>
                  <p:cNvGrpSpPr/>
                  <p:nvPr/>
                </p:nvGrpSpPr>
                <p:grpSpPr>
                  <a:xfrm>
                    <a:off x="567720" y="3757320"/>
                    <a:ext cx="425880" cy="822600"/>
                    <a:chOff x="567720" y="3757320"/>
                    <a:chExt cx="425880" cy="822600"/>
                  </a:xfrm>
                </p:grpSpPr>
                <p:grpSp>
                  <p:nvGrpSpPr>
                    <p:cNvPr id="296" name="组合 12542"/>
                    <p:cNvGrpSpPr/>
                    <p:nvPr/>
                  </p:nvGrpSpPr>
                  <p:grpSpPr>
                    <a:xfrm>
                      <a:off x="567720" y="3931560"/>
                      <a:ext cx="408600" cy="648360"/>
                      <a:chOff x="567720" y="3931560"/>
                      <a:chExt cx="408600" cy="648360"/>
                    </a:xfrm>
                  </p:grpSpPr>
                  <p:grpSp>
                    <p:nvGrpSpPr>
                      <p:cNvPr id="297" name="Group 153"/>
                      <p:cNvGrpSpPr/>
                      <p:nvPr/>
                    </p:nvGrpSpPr>
                    <p:grpSpPr>
                      <a:xfrm>
                        <a:off x="567720" y="3931560"/>
                        <a:ext cx="408600" cy="404280"/>
                        <a:chOff x="567720" y="3931560"/>
                        <a:chExt cx="408600" cy="404280"/>
                      </a:xfrm>
                    </p:grpSpPr>
                    <p:sp>
                      <p:nvSpPr>
                        <p:cNvPr id="298" name="Oval 154"/>
                        <p:cNvSpPr/>
                        <p:nvPr/>
                      </p:nvSpPr>
                      <p:spPr>
                        <a:xfrm>
                          <a:off x="567720" y="3931560"/>
                          <a:ext cx="408600" cy="4042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8f8f8f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Oval 155"/>
                        <p:cNvSpPr/>
                        <p:nvPr/>
                      </p:nvSpPr>
                      <p:spPr>
                        <a:xfrm>
                          <a:off x="624240" y="3987720"/>
                          <a:ext cx="295200" cy="2919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000000"/>
                            </a:gs>
                          </a:gsLst>
                          <a:lin ang="27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Oval 156"/>
                        <p:cNvSpPr/>
                        <p:nvPr/>
                      </p:nvSpPr>
                      <p:spPr>
                        <a:xfrm>
                          <a:off x="681120" y="4043880"/>
                          <a:ext cx="181440" cy="1796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808080"/>
                            </a:gs>
                            <a:gs pos="100000">
                              <a:srgbClr val="969696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Oval 157"/>
                        <p:cNvSpPr/>
                        <p:nvPr/>
                      </p:nvSpPr>
                      <p:spPr>
                        <a:xfrm>
                          <a:off x="738000" y="4100040"/>
                          <a:ext cx="68040" cy="67320"/>
                        </a:xfrm>
                        <a:prstGeom prst="ellipse">
                          <a:avLst/>
                        </a:prstGeom>
                        <a:solidFill>
                          <a:srgbClr val="333333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2" name="组合 12541"/>
                      <p:cNvGrpSpPr/>
                      <p:nvPr/>
                    </p:nvGrpSpPr>
                    <p:grpSpPr>
                      <a:xfrm>
                        <a:off x="644040" y="4092120"/>
                        <a:ext cx="260280" cy="487800"/>
                        <a:chOff x="644040" y="4092120"/>
                        <a:chExt cx="260280" cy="487800"/>
                      </a:xfrm>
                    </p:grpSpPr>
                    <p:sp>
                      <p:nvSpPr>
                        <p:cNvPr id="303" name="Freeform 159"/>
                        <p:cNvSpPr/>
                        <p:nvPr/>
                      </p:nvSpPr>
                      <p:spPr>
                        <a:xfrm flipH="1">
                          <a:off x="699840" y="4477320"/>
                          <a:ext cx="123480" cy="10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0" h="2594">
                              <a:moveTo>
                                <a:pt x="472" y="15"/>
                              </a:moveTo>
                              <a:cubicBezTo>
                                <a:pt x="472" y="107"/>
                                <a:pt x="477" y="387"/>
                                <a:pt x="472" y="552"/>
                              </a:cubicBezTo>
                              <a:cubicBezTo>
                                <a:pt x="467" y="717"/>
                                <a:pt x="480" y="887"/>
                                <a:pt x="442" y="1005"/>
                              </a:cubicBezTo>
                              <a:cubicBezTo>
                                <a:pt x="404" y="1123"/>
                                <a:pt x="302" y="1180"/>
                                <a:pt x="247" y="1260"/>
                              </a:cubicBezTo>
                              <a:cubicBezTo>
                                <a:pt x="192" y="1340"/>
                                <a:pt x="152" y="1398"/>
                                <a:pt x="112" y="1488"/>
                              </a:cubicBezTo>
                              <a:cubicBezTo>
                                <a:pt x="72" y="1578"/>
                                <a:pt x="14" y="1706"/>
                                <a:pt x="7" y="1800"/>
                              </a:cubicBezTo>
                              <a:cubicBezTo>
                                <a:pt x="0" y="1894"/>
                                <a:pt x="25" y="1968"/>
                                <a:pt x="67" y="2055"/>
                              </a:cubicBezTo>
                              <a:cubicBezTo>
                                <a:pt x="109" y="2142"/>
                                <a:pt x="165" y="2245"/>
                                <a:pt x="262" y="2325"/>
                              </a:cubicBezTo>
                              <a:cubicBezTo>
                                <a:pt x="359" y="2405"/>
                                <a:pt x="515" y="2498"/>
                                <a:pt x="652" y="2535"/>
                              </a:cubicBezTo>
                              <a:cubicBezTo>
                                <a:pt x="789" y="2572"/>
                                <a:pt x="937" y="2594"/>
                                <a:pt x="1087" y="2550"/>
                              </a:cubicBezTo>
                              <a:cubicBezTo>
                                <a:pt x="1237" y="2506"/>
                                <a:pt x="1440" y="2366"/>
                                <a:pt x="1552" y="2268"/>
                              </a:cubicBezTo>
                              <a:cubicBezTo>
                                <a:pt x="1664" y="2170"/>
                                <a:pt x="1702" y="2069"/>
                                <a:pt x="1762" y="1965"/>
                              </a:cubicBezTo>
                              <a:cubicBezTo>
                                <a:pt x="1822" y="1861"/>
                                <a:pt x="1872" y="1759"/>
                                <a:pt x="1912" y="1644"/>
                              </a:cubicBezTo>
                              <a:cubicBezTo>
                                <a:pt x="1952" y="1529"/>
                                <a:pt x="2020" y="1309"/>
                                <a:pt x="2002" y="1275"/>
                              </a:cubicBezTo>
                              <a:cubicBezTo>
                                <a:pt x="1984" y="1241"/>
                                <a:pt x="1874" y="1355"/>
                                <a:pt x="1807" y="1440"/>
                              </a:cubicBezTo>
                              <a:cubicBezTo>
                                <a:pt x="1740" y="1525"/>
                                <a:pt x="1669" y="1690"/>
                                <a:pt x="1597" y="1785"/>
                              </a:cubicBezTo>
                              <a:cubicBezTo>
                                <a:pt x="1525" y="1880"/>
                                <a:pt x="1442" y="1953"/>
                                <a:pt x="1372" y="2010"/>
                              </a:cubicBezTo>
                              <a:cubicBezTo>
                                <a:pt x="1302" y="2067"/>
                                <a:pt x="1257" y="2113"/>
                                <a:pt x="1177" y="2130"/>
                              </a:cubicBezTo>
                              <a:cubicBezTo>
                                <a:pt x="1097" y="2147"/>
                                <a:pt x="982" y="2147"/>
                                <a:pt x="892" y="2115"/>
                              </a:cubicBezTo>
                              <a:cubicBezTo>
                                <a:pt x="802" y="2083"/>
                                <a:pt x="677" y="2022"/>
                                <a:pt x="637" y="1935"/>
                              </a:cubicBezTo>
                              <a:cubicBezTo>
                                <a:pt x="597" y="1848"/>
                                <a:pt x="612" y="1702"/>
                                <a:pt x="652" y="1590"/>
                              </a:cubicBezTo>
                              <a:cubicBezTo>
                                <a:pt x="692" y="1478"/>
                                <a:pt x="817" y="1355"/>
                                <a:pt x="877" y="1260"/>
                              </a:cubicBezTo>
                              <a:cubicBezTo>
                                <a:pt x="937" y="1165"/>
                                <a:pt x="990" y="1112"/>
                                <a:pt x="1012" y="1020"/>
                              </a:cubicBezTo>
                              <a:cubicBezTo>
                                <a:pt x="1034" y="928"/>
                                <a:pt x="1012" y="786"/>
                                <a:pt x="1012" y="708"/>
                              </a:cubicBezTo>
                              <a:cubicBezTo>
                                <a:pt x="1012" y="630"/>
                                <a:pt x="1012" y="670"/>
                                <a:pt x="1012" y="552"/>
                              </a:cubicBezTo>
                              <a:cubicBezTo>
                                <a:pt x="1012" y="434"/>
                                <a:pt x="1012" y="115"/>
                                <a:pt x="1012" y="0"/>
                              </a:cubicBez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04" name="Group 160"/>
                        <p:cNvGrpSpPr/>
                        <p:nvPr/>
                      </p:nvGrpSpPr>
                      <p:grpSpPr>
                        <a:xfrm>
                          <a:off x="644040" y="4092120"/>
                          <a:ext cx="260280" cy="331920"/>
                          <a:chOff x="644040" y="4092120"/>
                          <a:chExt cx="260280" cy="331920"/>
                        </a:xfrm>
                      </p:grpSpPr>
                      <p:sp>
                        <p:nvSpPr>
                          <p:cNvPr id="305" name="Freeform 161"/>
                          <p:cNvSpPr/>
                          <p:nvPr/>
                        </p:nvSpPr>
                        <p:spPr>
                          <a:xfrm>
                            <a:off x="644040" y="4092120"/>
                            <a:ext cx="260280" cy="331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5" h="1180">
                                <a:moveTo>
                                  <a:pt x="0" y="0"/>
                                </a:moveTo>
                                <a:lnTo>
                                  <a:pt x="915" y="15"/>
                                </a:lnTo>
                                <a:lnTo>
                                  <a:pt x="630" y="1180"/>
                                </a:lnTo>
                                <a:lnTo>
                                  <a:pt x="270" y="1155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000000"/>
                              </a:gs>
                              <a:gs pos="50000">
                                <a:srgbClr val="969696"/>
                              </a:gs>
                              <a:gs pos="100000">
                                <a:srgbClr val="000000"/>
                              </a:gs>
                            </a:gsLst>
                            <a:lin ang="0"/>
                          </a:gra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6" name="Oval 162"/>
                          <p:cNvSpPr/>
                          <p:nvPr/>
                        </p:nvSpPr>
                        <p:spPr>
                          <a:xfrm>
                            <a:off x="738000" y="4106160"/>
                            <a:ext cx="61200" cy="604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c0c0c0"/>
                              </a:gs>
                              <a:gs pos="100000">
                                <a:srgbClr val="000000"/>
                              </a:gs>
                            </a:gsLst>
                            <a:path path="rect">
                              <a:fillToRect l="50000" t="50000" r="50000" b="50000"/>
                            </a:path>
                          </a:gra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7" name="Oval 163"/>
                          <p:cNvSpPr/>
                          <p:nvPr/>
                        </p:nvSpPr>
                        <p:spPr>
                          <a:xfrm>
                            <a:off x="743400" y="4335480"/>
                            <a:ext cx="61200" cy="604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c0c0c0"/>
                              </a:gs>
                              <a:gs pos="100000">
                                <a:srgbClr val="000000"/>
                              </a:gs>
                            </a:gsLst>
                            <a:path path="rect">
                              <a:fillToRect l="50000" t="50000" r="50000" b="50000"/>
                            </a:path>
                          </a:gra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308" name="Group 184"/>
                    <p:cNvGrpSpPr/>
                    <p:nvPr/>
                  </p:nvGrpSpPr>
                  <p:grpSpPr>
                    <a:xfrm>
                      <a:off x="585000" y="3938400"/>
                      <a:ext cx="408600" cy="404280"/>
                      <a:chOff x="585000" y="3938400"/>
                      <a:chExt cx="408600" cy="404280"/>
                    </a:xfrm>
                  </p:grpSpPr>
                  <p:sp>
                    <p:nvSpPr>
                      <p:cNvPr id="309" name="Oval 185"/>
                      <p:cNvSpPr/>
                      <p:nvPr/>
                    </p:nvSpPr>
                    <p:spPr>
                      <a:xfrm flipV="1">
                        <a:off x="585000" y="3938040"/>
                        <a:ext cx="408600" cy="404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8f8f8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Oval 186"/>
                      <p:cNvSpPr/>
                      <p:nvPr/>
                    </p:nvSpPr>
                    <p:spPr>
                      <a:xfrm flipV="1">
                        <a:off x="641520" y="3994200"/>
                        <a:ext cx="295200" cy="2919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000000"/>
                          </a:gs>
                        </a:gsLst>
                        <a:lin ang="27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Oval 187"/>
                      <p:cNvSpPr/>
                      <p:nvPr/>
                    </p:nvSpPr>
                    <p:spPr>
                      <a:xfrm flipV="1">
                        <a:off x="698400" y="4050360"/>
                        <a:ext cx="181440" cy="1796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808080"/>
                          </a:gs>
                          <a:gs pos="100000">
                            <a:srgbClr val="969696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Oval 188"/>
                      <p:cNvSpPr/>
                      <p:nvPr/>
                    </p:nvSpPr>
                    <p:spPr>
                      <a:xfrm flipV="1">
                        <a:off x="755280" y="4106520"/>
                        <a:ext cx="68040" cy="67320"/>
                      </a:xfrm>
                      <a:prstGeom prst="ellipse">
                        <a:avLst/>
                      </a:pr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3" name="Freeform 190"/>
                    <p:cNvSpPr/>
                    <p:nvPr/>
                  </p:nvSpPr>
                  <p:spPr>
                    <a:xfrm flipV="1">
                      <a:off x="733320" y="3757320"/>
                      <a:ext cx="13428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Oval 194"/>
                    <p:cNvSpPr/>
                    <p:nvPr/>
                  </p:nvSpPr>
                  <p:spPr>
                    <a:xfrm flipV="1">
                      <a:off x="756000" y="3884400"/>
                      <a:ext cx="59760" cy="59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5" name="组合 12535"/>
                    <p:cNvGrpSpPr/>
                    <p:nvPr/>
                  </p:nvGrpSpPr>
                  <p:grpSpPr>
                    <a:xfrm>
                      <a:off x="704160" y="3850200"/>
                      <a:ext cx="152640" cy="621000"/>
                      <a:chOff x="704160" y="3850200"/>
                      <a:chExt cx="152640" cy="621000"/>
                    </a:xfrm>
                  </p:grpSpPr>
                  <p:sp>
                    <p:nvSpPr>
                      <p:cNvPr id="316" name="Freeform 192"/>
                      <p:cNvSpPr/>
                      <p:nvPr/>
                    </p:nvSpPr>
                    <p:spPr>
                      <a:xfrm flipV="1">
                        <a:off x="709200" y="3850200"/>
                        <a:ext cx="147600" cy="33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5" h="1180">
                            <a:moveTo>
                              <a:pt x="0" y="0"/>
                            </a:moveTo>
                            <a:lnTo>
                              <a:pt x="915" y="15"/>
                            </a:lnTo>
                            <a:lnTo>
                              <a:pt x="630" y="1180"/>
                            </a:lnTo>
                            <a:lnTo>
                              <a:pt x="270" y="115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Freeform 192"/>
                      <p:cNvSpPr/>
                      <p:nvPr/>
                    </p:nvSpPr>
                    <p:spPr>
                      <a:xfrm>
                        <a:off x="704160" y="4140000"/>
                        <a:ext cx="147600" cy="33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5" h="1180">
                            <a:moveTo>
                              <a:pt x="0" y="0"/>
                            </a:moveTo>
                            <a:lnTo>
                              <a:pt x="915" y="15"/>
                            </a:lnTo>
                            <a:lnTo>
                              <a:pt x="630" y="1180"/>
                            </a:lnTo>
                            <a:lnTo>
                              <a:pt x="270" y="115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8" name="Oval 193"/>
                    <p:cNvSpPr/>
                    <p:nvPr/>
                  </p:nvSpPr>
                  <p:spPr>
                    <a:xfrm flipV="1">
                      <a:off x="747720" y="4130640"/>
                      <a:ext cx="58680" cy="59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Oval 193"/>
                    <p:cNvSpPr/>
                    <p:nvPr/>
                  </p:nvSpPr>
                  <p:spPr>
                    <a:xfrm flipV="1">
                      <a:off x="756000" y="3834720"/>
                      <a:ext cx="59760" cy="59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Oval 193"/>
                    <p:cNvSpPr/>
                    <p:nvPr/>
                  </p:nvSpPr>
                  <p:spPr>
                    <a:xfrm flipV="1">
                      <a:off x="747720" y="4386960"/>
                      <a:ext cx="58680" cy="59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1" name="直接连接符 12576"/>
                  <p:cNvSpPr/>
                  <p:nvPr/>
                </p:nvSpPr>
                <p:spPr>
                  <a:xfrm>
                    <a:off x="767520" y="3654360"/>
                    <a:ext cx="0" cy="137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2" name="xjhlx8"/>
          <p:cNvGrpSpPr/>
          <p:nvPr/>
        </p:nvGrpSpPr>
        <p:grpSpPr>
          <a:xfrm>
            <a:off x="595080" y="604800"/>
            <a:ext cx="425160" cy="579600"/>
            <a:chOff x="595080" y="604800"/>
            <a:chExt cx="425160" cy="579600"/>
          </a:xfrm>
        </p:grpSpPr>
        <p:grpSp>
          <p:nvGrpSpPr>
            <p:cNvPr id="323" name="Group 146"/>
            <p:cNvGrpSpPr/>
            <p:nvPr/>
          </p:nvGrpSpPr>
          <p:grpSpPr>
            <a:xfrm>
              <a:off x="595080" y="770760"/>
              <a:ext cx="425160" cy="413640"/>
              <a:chOff x="595080" y="770760"/>
              <a:chExt cx="425160" cy="413640"/>
            </a:xfrm>
          </p:grpSpPr>
          <p:sp>
            <p:nvSpPr>
              <p:cNvPr id="324" name="Oval 147"/>
              <p:cNvSpPr/>
              <p:nvPr/>
            </p:nvSpPr>
            <p:spPr>
              <a:xfrm flipH="1" flipV="1" rot="16200000">
                <a:off x="600480" y="764640"/>
                <a:ext cx="413640" cy="425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f8f8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48"/>
              <p:cNvSpPr/>
              <p:nvPr/>
            </p:nvSpPr>
            <p:spPr>
              <a:xfrm flipH="1" flipV="1" rot="16200000">
                <a:off x="657720" y="823680"/>
                <a:ext cx="298800" cy="30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49"/>
              <p:cNvSpPr/>
              <p:nvPr/>
            </p:nvSpPr>
            <p:spPr>
              <a:xfrm flipH="1" flipV="1" rot="16200000">
                <a:off x="715320" y="882720"/>
                <a:ext cx="183600" cy="18900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150"/>
              <p:cNvSpPr/>
              <p:nvPr/>
            </p:nvSpPr>
            <p:spPr>
              <a:xfrm flipH="1" flipV="1" rot="16200000">
                <a:off x="772920" y="941760"/>
                <a:ext cx="68760" cy="709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Rectangle 151"/>
            <p:cNvSpPr/>
            <p:nvPr/>
          </p:nvSpPr>
          <p:spPr>
            <a:xfrm flipH="1" flipV="1" rot="16200000">
              <a:off x="609840" y="766800"/>
              <a:ext cx="395640" cy="70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Line 164"/>
          <p:cNvSpPr/>
          <p:nvPr/>
        </p:nvSpPr>
        <p:spPr>
          <a:xfrm>
            <a:off x="538200" y="1474920"/>
            <a:ext cx="46080" cy="912600"/>
          </a:xfrm>
          <a:prstGeom prst="line">
            <a:avLst/>
          </a:prstGeom>
          <a:ln w="19080">
            <a:solidFill>
              <a:srgbClr val="0000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65"/>
          <p:cNvSpPr/>
          <p:nvPr/>
        </p:nvSpPr>
        <p:spPr>
          <a:xfrm>
            <a:off x="1015920" y="993600"/>
            <a:ext cx="0" cy="138924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66"/>
          <p:cNvSpPr/>
          <p:nvPr/>
        </p:nvSpPr>
        <p:spPr>
          <a:xfrm>
            <a:off x="603360" y="1036800"/>
            <a:ext cx="257040" cy="10285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75"/>
          <p:cNvGrpSpPr/>
          <p:nvPr/>
        </p:nvGrpSpPr>
        <p:grpSpPr>
          <a:xfrm>
            <a:off x="425160" y="593640"/>
            <a:ext cx="826560" cy="44640"/>
            <a:chOff x="425160" y="593640"/>
            <a:chExt cx="826560" cy="44640"/>
          </a:xfrm>
        </p:grpSpPr>
        <p:sp>
          <p:nvSpPr>
            <p:cNvPr id="333" name="Line 176"/>
            <p:cNvSpPr/>
            <p:nvPr/>
          </p:nvSpPr>
          <p:spPr>
            <a:xfrm flipH="1" flipV="1">
              <a:off x="425160" y="593640"/>
              <a:ext cx="137160" cy="4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77"/>
            <p:cNvSpPr/>
            <p:nvPr/>
          </p:nvSpPr>
          <p:spPr>
            <a:xfrm flipH="1" flipV="1">
              <a:off x="562680" y="593640"/>
              <a:ext cx="138240" cy="4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78"/>
            <p:cNvSpPr/>
            <p:nvPr/>
          </p:nvSpPr>
          <p:spPr>
            <a:xfrm flipH="1" flipV="1">
              <a:off x="701280" y="593640"/>
              <a:ext cx="137520" cy="4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9"/>
            <p:cNvSpPr/>
            <p:nvPr/>
          </p:nvSpPr>
          <p:spPr>
            <a:xfrm flipH="1" flipV="1">
              <a:off x="838440" y="593640"/>
              <a:ext cx="137160" cy="4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0"/>
            <p:cNvSpPr/>
            <p:nvPr/>
          </p:nvSpPr>
          <p:spPr>
            <a:xfrm flipH="1" flipV="1">
              <a:off x="975960" y="593640"/>
              <a:ext cx="137160" cy="4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81"/>
            <p:cNvSpPr/>
            <p:nvPr/>
          </p:nvSpPr>
          <p:spPr>
            <a:xfrm flipH="1" flipV="1">
              <a:off x="1113120" y="593640"/>
              <a:ext cx="138600" cy="4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82"/>
            <p:cNvSpPr/>
            <p:nvPr/>
          </p:nvSpPr>
          <p:spPr>
            <a:xfrm>
              <a:off x="451440" y="638280"/>
              <a:ext cx="799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2614"/>
          <p:cNvGrpSpPr/>
          <p:nvPr/>
        </p:nvGrpSpPr>
        <p:grpSpPr>
          <a:xfrm>
            <a:off x="385920" y="1268280"/>
            <a:ext cx="647280" cy="2219400"/>
            <a:chOff x="385920" y="1268280"/>
            <a:chExt cx="647280" cy="2219400"/>
          </a:xfrm>
        </p:grpSpPr>
        <p:grpSp>
          <p:nvGrpSpPr>
            <p:cNvPr id="341" name="xjhlx13"/>
            <p:cNvGrpSpPr/>
            <p:nvPr/>
          </p:nvGrpSpPr>
          <p:grpSpPr>
            <a:xfrm>
              <a:off x="701640" y="3114360"/>
              <a:ext cx="287280" cy="373320"/>
              <a:chOff x="701640" y="3114360"/>
              <a:chExt cx="287280" cy="373320"/>
            </a:xfrm>
          </p:grpSpPr>
          <p:sp>
            <p:nvSpPr>
              <p:cNvPr id="342" name="Freeform 172"/>
              <p:cNvSpPr/>
              <p:nvPr/>
            </p:nvSpPr>
            <p:spPr>
              <a:xfrm>
                <a:off x="811080" y="3380040"/>
                <a:ext cx="83880" cy="1076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73"/>
              <p:cNvSpPr/>
              <p:nvPr/>
            </p:nvSpPr>
            <p:spPr>
              <a:xfrm flipH="1" flipV="1">
                <a:off x="794160" y="3114000"/>
                <a:ext cx="83880" cy="1076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74"/>
              <p:cNvSpPr/>
              <p:nvPr/>
            </p:nvSpPr>
            <p:spPr>
              <a:xfrm>
                <a:off x="701640" y="3212280"/>
                <a:ext cx="287280" cy="18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c0c0c0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144"/>
            <p:cNvSpPr/>
            <p:nvPr/>
          </p:nvSpPr>
          <p:spPr>
            <a:xfrm>
              <a:off x="385920" y="1268280"/>
              <a:ext cx="2696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xjhlx13"/>
            <p:cNvGrpSpPr/>
            <p:nvPr/>
          </p:nvGrpSpPr>
          <p:grpSpPr>
            <a:xfrm>
              <a:off x="696960" y="2792520"/>
              <a:ext cx="298440" cy="379080"/>
              <a:chOff x="696960" y="2792520"/>
              <a:chExt cx="298440" cy="379080"/>
            </a:xfrm>
          </p:grpSpPr>
          <p:sp>
            <p:nvSpPr>
              <p:cNvPr id="347" name="Freeform 168"/>
              <p:cNvSpPr/>
              <p:nvPr/>
            </p:nvSpPr>
            <p:spPr>
              <a:xfrm>
                <a:off x="810720" y="3062160"/>
                <a:ext cx="87120" cy="1094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69"/>
              <p:cNvSpPr/>
              <p:nvPr/>
            </p:nvSpPr>
            <p:spPr>
              <a:xfrm flipH="1" flipV="1">
                <a:off x="793800" y="2792520"/>
                <a:ext cx="87120" cy="109440"/>
              </a:xfrm>
              <a:custGeom>
                <a:avLst/>
                <a:gdLst/>
                <a:ahLst/>
                <a:rect l="l" t="t" r="r" b="b"/>
                <a:pathLst>
                  <a:path w="2020" h="2594">
                    <a:moveTo>
                      <a:pt x="472" y="15"/>
                    </a:moveTo>
                    <a:cubicBezTo>
                      <a:pt x="472" y="107"/>
                      <a:pt x="477" y="387"/>
                      <a:pt x="472" y="552"/>
                    </a:cubicBezTo>
                    <a:cubicBezTo>
                      <a:pt x="467" y="717"/>
                      <a:pt x="480" y="887"/>
                      <a:pt x="442" y="1005"/>
                    </a:cubicBezTo>
                    <a:cubicBezTo>
                      <a:pt x="404" y="1123"/>
                      <a:pt x="302" y="1180"/>
                      <a:pt x="247" y="1260"/>
                    </a:cubicBezTo>
                    <a:cubicBezTo>
                      <a:pt x="192" y="1340"/>
                      <a:pt x="152" y="1398"/>
                      <a:pt x="112" y="1488"/>
                    </a:cubicBezTo>
                    <a:cubicBezTo>
                      <a:pt x="72" y="1578"/>
                      <a:pt x="14" y="1706"/>
                      <a:pt x="7" y="1800"/>
                    </a:cubicBezTo>
                    <a:cubicBezTo>
                      <a:pt x="0" y="1894"/>
                      <a:pt x="25" y="1968"/>
                      <a:pt x="67" y="2055"/>
                    </a:cubicBezTo>
                    <a:cubicBezTo>
                      <a:pt x="109" y="2142"/>
                      <a:pt x="165" y="2245"/>
                      <a:pt x="262" y="2325"/>
                    </a:cubicBezTo>
                    <a:cubicBezTo>
                      <a:pt x="359" y="2405"/>
                      <a:pt x="515" y="2498"/>
                      <a:pt x="652" y="2535"/>
                    </a:cubicBezTo>
                    <a:cubicBezTo>
                      <a:pt x="789" y="2572"/>
                      <a:pt x="937" y="2594"/>
                      <a:pt x="1087" y="2550"/>
                    </a:cubicBezTo>
                    <a:cubicBezTo>
                      <a:pt x="1237" y="2506"/>
                      <a:pt x="1440" y="2366"/>
                      <a:pt x="1552" y="2268"/>
                    </a:cubicBezTo>
                    <a:cubicBezTo>
                      <a:pt x="1664" y="2170"/>
                      <a:pt x="1702" y="2069"/>
                      <a:pt x="1762" y="1965"/>
                    </a:cubicBezTo>
                    <a:cubicBezTo>
                      <a:pt x="1822" y="1861"/>
                      <a:pt x="1872" y="1759"/>
                      <a:pt x="1912" y="1644"/>
                    </a:cubicBezTo>
                    <a:cubicBezTo>
                      <a:pt x="1952" y="1529"/>
                      <a:pt x="2020" y="1309"/>
                      <a:pt x="2002" y="1275"/>
                    </a:cubicBezTo>
                    <a:cubicBezTo>
                      <a:pt x="1984" y="1241"/>
                      <a:pt x="1874" y="1355"/>
                      <a:pt x="1807" y="1440"/>
                    </a:cubicBezTo>
                    <a:cubicBezTo>
                      <a:pt x="1740" y="1525"/>
                      <a:pt x="1669" y="1690"/>
                      <a:pt x="1597" y="1785"/>
                    </a:cubicBezTo>
                    <a:cubicBezTo>
                      <a:pt x="1525" y="1880"/>
                      <a:pt x="1442" y="1953"/>
                      <a:pt x="1372" y="2010"/>
                    </a:cubicBezTo>
                    <a:cubicBezTo>
                      <a:pt x="1302" y="2067"/>
                      <a:pt x="1257" y="2113"/>
                      <a:pt x="1177" y="2130"/>
                    </a:cubicBezTo>
                    <a:cubicBezTo>
                      <a:pt x="1097" y="2147"/>
                      <a:pt x="982" y="2147"/>
                      <a:pt x="892" y="2115"/>
                    </a:cubicBezTo>
                    <a:cubicBezTo>
                      <a:pt x="802" y="2083"/>
                      <a:pt x="677" y="2022"/>
                      <a:pt x="637" y="1935"/>
                    </a:cubicBezTo>
                    <a:cubicBezTo>
                      <a:pt x="597" y="1848"/>
                      <a:pt x="612" y="1702"/>
                      <a:pt x="652" y="1590"/>
                    </a:cubicBezTo>
                    <a:cubicBezTo>
                      <a:pt x="692" y="1478"/>
                      <a:pt x="817" y="1355"/>
                      <a:pt x="877" y="1260"/>
                    </a:cubicBezTo>
                    <a:cubicBezTo>
                      <a:pt x="937" y="1165"/>
                      <a:pt x="990" y="1112"/>
                      <a:pt x="1012" y="1020"/>
                    </a:cubicBezTo>
                    <a:cubicBezTo>
                      <a:pt x="1034" y="928"/>
                      <a:pt x="1012" y="786"/>
                      <a:pt x="1012" y="708"/>
                    </a:cubicBezTo>
                    <a:cubicBezTo>
                      <a:pt x="1012" y="630"/>
                      <a:pt x="1012" y="670"/>
                      <a:pt x="1012" y="552"/>
                    </a:cubicBezTo>
                    <a:cubicBezTo>
                      <a:pt x="1012" y="434"/>
                      <a:pt x="1012" y="115"/>
                      <a:pt x="1012" y="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70"/>
              <p:cNvSpPr/>
              <p:nvPr/>
            </p:nvSpPr>
            <p:spPr>
              <a:xfrm>
                <a:off x="696960" y="2891880"/>
                <a:ext cx="298440" cy="1918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c0c0c0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组合 12586"/>
            <p:cNvGrpSpPr/>
            <p:nvPr/>
          </p:nvGrpSpPr>
          <p:grpSpPr>
            <a:xfrm>
              <a:off x="584280" y="2022120"/>
              <a:ext cx="448920" cy="822240"/>
              <a:chOff x="584280" y="2022120"/>
              <a:chExt cx="448920" cy="822240"/>
            </a:xfrm>
          </p:grpSpPr>
          <p:grpSp>
            <p:nvGrpSpPr>
              <p:cNvPr id="351" name="Group 153"/>
              <p:cNvGrpSpPr/>
              <p:nvPr/>
            </p:nvGrpSpPr>
            <p:grpSpPr>
              <a:xfrm>
                <a:off x="584280" y="2199960"/>
                <a:ext cx="430200" cy="412200"/>
                <a:chOff x="584280" y="2199960"/>
                <a:chExt cx="430200" cy="412200"/>
              </a:xfrm>
            </p:grpSpPr>
            <p:sp>
              <p:nvSpPr>
                <p:cNvPr id="352" name="Oval 154"/>
                <p:cNvSpPr/>
                <p:nvPr/>
              </p:nvSpPr>
              <p:spPr>
                <a:xfrm>
                  <a:off x="584280" y="2199960"/>
                  <a:ext cx="430200" cy="41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55"/>
                <p:cNvSpPr/>
                <p:nvPr/>
              </p:nvSpPr>
              <p:spPr>
                <a:xfrm>
                  <a:off x="644040" y="2257200"/>
                  <a:ext cx="310680" cy="2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56"/>
                <p:cNvSpPr/>
                <p:nvPr/>
              </p:nvSpPr>
              <p:spPr>
                <a:xfrm>
                  <a:off x="703800" y="2314440"/>
                  <a:ext cx="191160" cy="1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157"/>
                <p:cNvSpPr/>
                <p:nvPr/>
              </p:nvSpPr>
              <p:spPr>
                <a:xfrm>
                  <a:off x="763560" y="2371680"/>
                  <a:ext cx="71640" cy="6876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184"/>
              <p:cNvGrpSpPr/>
              <p:nvPr/>
            </p:nvGrpSpPr>
            <p:grpSpPr>
              <a:xfrm>
                <a:off x="602640" y="2207160"/>
                <a:ext cx="430560" cy="412200"/>
                <a:chOff x="602640" y="2207160"/>
                <a:chExt cx="430560" cy="412200"/>
              </a:xfrm>
            </p:grpSpPr>
            <p:sp>
              <p:nvSpPr>
                <p:cNvPr id="357" name="Oval 185"/>
                <p:cNvSpPr/>
                <p:nvPr/>
              </p:nvSpPr>
              <p:spPr>
                <a:xfrm flipV="1">
                  <a:off x="602640" y="2206800"/>
                  <a:ext cx="430560" cy="41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8f8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186"/>
                <p:cNvSpPr/>
                <p:nvPr/>
              </p:nvSpPr>
              <p:spPr>
                <a:xfrm flipV="1">
                  <a:off x="662400" y="2264040"/>
                  <a:ext cx="311040" cy="2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187"/>
                <p:cNvSpPr/>
                <p:nvPr/>
              </p:nvSpPr>
              <p:spPr>
                <a:xfrm flipV="1">
                  <a:off x="722160" y="2321280"/>
                  <a:ext cx="191160" cy="1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188"/>
                <p:cNvSpPr/>
                <p:nvPr/>
              </p:nvSpPr>
              <p:spPr>
                <a:xfrm flipV="1">
                  <a:off x="781920" y="2378520"/>
                  <a:ext cx="71640" cy="6876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组合 12597"/>
              <p:cNvGrpSpPr/>
              <p:nvPr/>
            </p:nvGrpSpPr>
            <p:grpSpPr>
              <a:xfrm>
                <a:off x="759240" y="2022120"/>
                <a:ext cx="141480" cy="822240"/>
                <a:chOff x="759240" y="2022120"/>
                <a:chExt cx="141480" cy="822240"/>
              </a:xfrm>
            </p:grpSpPr>
            <p:sp>
              <p:nvSpPr>
                <p:cNvPr id="362" name="Freeform 210"/>
                <p:cNvSpPr/>
                <p:nvPr/>
              </p:nvSpPr>
              <p:spPr>
                <a:xfrm flipV="1">
                  <a:off x="794880" y="2021760"/>
                  <a:ext cx="95760" cy="13068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0"/>
                <p:cNvSpPr/>
                <p:nvPr/>
              </p:nvSpPr>
              <p:spPr>
                <a:xfrm>
                  <a:off x="793800" y="2713680"/>
                  <a:ext cx="95760" cy="13068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212"/>
                <p:cNvSpPr/>
                <p:nvPr/>
              </p:nvSpPr>
              <p:spPr>
                <a:xfrm>
                  <a:off x="759240" y="2378880"/>
                  <a:ext cx="141480" cy="334440"/>
                </a:xfrm>
                <a:custGeom>
                  <a:avLst/>
                  <a:gdLst/>
                  <a:ahLst/>
                  <a:rect l="l" t="t" r="r" b="b"/>
                  <a:pathLst>
                    <a:path w="915" h="1180">
                      <a:moveTo>
                        <a:pt x="0" y="0"/>
                      </a:moveTo>
                      <a:lnTo>
                        <a:pt x="915" y="15"/>
                      </a:lnTo>
                      <a:lnTo>
                        <a:pt x="630" y="1180"/>
                      </a:lnTo>
                      <a:lnTo>
                        <a:pt x="270" y="11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969696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214"/>
                <p:cNvSpPr/>
                <p:nvPr/>
              </p:nvSpPr>
              <p:spPr>
                <a:xfrm>
                  <a:off x="790200" y="2677680"/>
                  <a:ext cx="66960" cy="5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2"/>
                <p:cNvSpPr/>
                <p:nvPr/>
              </p:nvSpPr>
              <p:spPr>
                <a:xfrm flipV="1">
                  <a:off x="759240" y="2117880"/>
                  <a:ext cx="141480" cy="298440"/>
                </a:xfrm>
                <a:custGeom>
                  <a:avLst/>
                  <a:gdLst/>
                  <a:ahLst/>
                  <a:rect l="l" t="t" r="r" b="b"/>
                  <a:pathLst>
                    <a:path w="915" h="1180">
                      <a:moveTo>
                        <a:pt x="0" y="0"/>
                      </a:moveTo>
                      <a:lnTo>
                        <a:pt x="915" y="15"/>
                      </a:lnTo>
                      <a:lnTo>
                        <a:pt x="630" y="1180"/>
                      </a:lnTo>
                      <a:lnTo>
                        <a:pt x="270" y="11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969696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213"/>
                <p:cNvSpPr/>
                <p:nvPr/>
              </p:nvSpPr>
              <p:spPr>
                <a:xfrm>
                  <a:off x="793800" y="2118600"/>
                  <a:ext cx="66960" cy="5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椭圆 12604"/>
                <p:cNvSpPr/>
                <p:nvPr/>
              </p:nvSpPr>
              <p:spPr>
                <a:xfrm>
                  <a:off x="782640" y="2380320"/>
                  <a:ext cx="100800" cy="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5b5b"/>
                    </a:gs>
                    <a:gs pos="50000">
                      <a:srgbClr val="969696"/>
                    </a:gs>
                    <a:gs pos="100000">
                      <a:srgbClr val="5b5b5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213"/>
                <p:cNvSpPr/>
                <p:nvPr/>
              </p:nvSpPr>
              <p:spPr>
                <a:xfrm>
                  <a:off x="797400" y="2397600"/>
                  <a:ext cx="66960" cy="5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70" name="对象 12616" descr=""/>
          <p:cNvPicPr/>
          <p:nvPr/>
        </p:nvPicPr>
        <p:blipFill>
          <a:blip r:embed="rId1"/>
          <a:stretch/>
        </p:blipFill>
        <p:spPr>
          <a:xfrm>
            <a:off x="8082000" y="2529000"/>
            <a:ext cx="342720" cy="404640"/>
          </a:xfrm>
          <a:prstGeom prst="rect">
            <a:avLst/>
          </a:prstGeom>
          <a:ln w="0">
            <a:noFill/>
          </a:ln>
        </p:spPr>
      </p:pic>
      <p:sp>
        <p:nvSpPr>
          <p:cNvPr id="3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79080" y="757080"/>
            <a:ext cx="6550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ff"/>
                </a:solidFill>
                <a:latin typeface="Franklin Gothic Medium"/>
                <a:ea typeface="黑体"/>
              </a:rPr>
              <a:t>影响滑轮组机械效率的因素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5000" y="1596960"/>
            <a:ext cx="795492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40000"/>
              </a:lnSpc>
              <a:spcBef>
                <a:spcPts val="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摩擦、绳重（轮与轴及轮与绳之间）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减小摩擦可以减少额外功，提高机械效率）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如：加强机械运动部位的润滑、采用轻质细绳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物重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物重增加，机械效率提高）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动滑轮重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动滑轮重减小，机械效率提高）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对象 67589" descr=""/>
          <p:cNvPicPr/>
          <p:nvPr/>
        </p:nvPicPr>
        <p:blipFill>
          <a:blip r:embed="rId1"/>
          <a:stretch/>
        </p:blipFill>
        <p:spPr>
          <a:xfrm>
            <a:off x="1836720" y="1359000"/>
            <a:ext cx="552600" cy="850680"/>
          </a:xfrm>
          <a:prstGeom prst="rect">
            <a:avLst/>
          </a:prstGeom>
          <a:ln w="0">
            <a:noFill/>
          </a:ln>
        </p:spPr>
      </p:pic>
      <p:pic>
        <p:nvPicPr>
          <p:cNvPr id="376" name="对象 67588" descr=""/>
          <p:cNvPicPr/>
          <p:nvPr/>
        </p:nvPicPr>
        <p:blipFill>
          <a:blip r:embed="rId2"/>
          <a:stretch/>
        </p:blipFill>
        <p:spPr>
          <a:xfrm>
            <a:off x="2876400" y="1365120"/>
            <a:ext cx="755640" cy="884520"/>
          </a:xfrm>
          <a:prstGeom prst="rect">
            <a:avLst/>
          </a:prstGeom>
          <a:ln w="0">
            <a:noFill/>
          </a:ln>
        </p:spPr>
      </p:pic>
      <p:pic>
        <p:nvPicPr>
          <p:cNvPr id="377" name="对象 67587" descr=""/>
          <p:cNvPicPr/>
          <p:nvPr/>
        </p:nvPicPr>
        <p:blipFill>
          <a:blip r:embed="rId3"/>
          <a:stretch/>
        </p:blipFill>
        <p:spPr>
          <a:xfrm>
            <a:off x="4127400" y="1378080"/>
            <a:ext cx="608040" cy="812520"/>
          </a:xfrm>
          <a:prstGeom prst="rect">
            <a:avLst/>
          </a:prstGeom>
          <a:ln w="0">
            <a:noFill/>
          </a:ln>
        </p:spPr>
      </p:pic>
      <p:sp>
        <p:nvSpPr>
          <p:cNvPr id="378" name="矩形 67590"/>
          <p:cNvSpPr/>
          <p:nvPr/>
        </p:nvSpPr>
        <p:spPr>
          <a:xfrm>
            <a:off x="1201680" y="1539360"/>
            <a:ext cx="9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η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67591"/>
          <p:cNvSpPr/>
          <p:nvPr/>
        </p:nvSpPr>
        <p:spPr>
          <a:xfrm>
            <a:off x="2201040" y="2988720"/>
            <a:ext cx="36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黑体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67592"/>
          <p:cNvSpPr/>
          <p:nvPr/>
        </p:nvSpPr>
        <p:spPr>
          <a:xfrm>
            <a:off x="2201040" y="3684240"/>
            <a:ext cx="36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黑体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358920" y="660240"/>
            <a:ext cx="6207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关于测量滑轮组机械效率的几点说明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7595"/>
          <p:cNvSpPr/>
          <p:nvPr/>
        </p:nvSpPr>
        <p:spPr>
          <a:xfrm>
            <a:off x="3716280" y="1539360"/>
            <a:ext cx="45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67596"/>
          <p:cNvSpPr/>
          <p:nvPr/>
        </p:nvSpPr>
        <p:spPr>
          <a:xfrm>
            <a:off x="3632040" y="4694400"/>
            <a:ext cx="45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7597"/>
          <p:cNvSpPr/>
          <p:nvPr/>
        </p:nvSpPr>
        <p:spPr>
          <a:xfrm>
            <a:off x="2401920" y="1539360"/>
            <a:ext cx="45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542880" y="2387520"/>
            <a:ext cx="7161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在测滑轮组的机械效率时，可以不测量</a:t>
            </a:r>
            <a:r>
              <a:rPr b="0" i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s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和</a:t>
            </a:r>
            <a:r>
              <a:rPr b="0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h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542880" y="3017880"/>
            <a:ext cx="6743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若不考虑绳重和摩擦，只计动滑轮重力时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7606"/>
          <p:cNvSpPr/>
          <p:nvPr/>
        </p:nvSpPr>
        <p:spPr>
          <a:xfrm>
            <a:off x="2349000" y="3824280"/>
            <a:ext cx="1983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动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)/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67608"/>
          <p:cNvSpPr/>
          <p:nvPr/>
        </p:nvSpPr>
        <p:spPr>
          <a:xfrm>
            <a:off x="2401920" y="4661280"/>
            <a:ext cx="9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η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内容占位符 67609" descr=""/>
          <p:cNvPicPr/>
          <p:nvPr/>
        </p:nvPicPr>
        <p:blipFill>
          <a:blip r:embed="rId4"/>
          <a:stretch/>
        </p:blipFill>
        <p:spPr>
          <a:xfrm>
            <a:off x="3016080" y="4538520"/>
            <a:ext cx="476280" cy="739800"/>
          </a:xfrm>
          <a:prstGeom prst="rect">
            <a:avLst/>
          </a:prstGeom>
          <a:ln w="0">
            <a:noFill/>
          </a:ln>
        </p:spPr>
      </p:pic>
      <p:grpSp>
        <p:nvGrpSpPr>
          <p:cNvPr id="390" name="组合 67613"/>
          <p:cNvGrpSpPr/>
          <p:nvPr/>
        </p:nvGrpSpPr>
        <p:grpSpPr>
          <a:xfrm>
            <a:off x="4167360" y="4410000"/>
            <a:ext cx="1081440" cy="1015560"/>
            <a:chOff x="4167360" y="4410000"/>
            <a:chExt cx="1081440" cy="1015560"/>
          </a:xfrm>
        </p:grpSpPr>
        <p:sp>
          <p:nvSpPr>
            <p:cNvPr id="391" name="直接连接符 67610"/>
            <p:cNvSpPr/>
            <p:nvPr/>
          </p:nvSpPr>
          <p:spPr>
            <a:xfrm>
              <a:off x="4167360" y="4935600"/>
              <a:ext cx="1081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67611"/>
            <p:cNvSpPr/>
            <p:nvPr/>
          </p:nvSpPr>
          <p:spPr>
            <a:xfrm>
              <a:off x="4209840" y="4410000"/>
              <a:ext cx="1038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r>
                <a:rPr b="0" lang="zh-CN" sz="26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动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67612"/>
            <p:cNvSpPr/>
            <p:nvPr/>
          </p:nvSpPr>
          <p:spPr>
            <a:xfrm>
              <a:off x="4423320" y="4935600"/>
              <a:ext cx="420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67615"/>
          <p:cNvGrpSpPr/>
          <p:nvPr/>
        </p:nvGrpSpPr>
        <p:grpSpPr>
          <a:xfrm>
            <a:off x="4873680" y="1263600"/>
            <a:ext cx="1689840" cy="944640"/>
            <a:chOff x="4873680" y="1263600"/>
            <a:chExt cx="1689840" cy="944640"/>
          </a:xfrm>
        </p:grpSpPr>
        <p:grpSp>
          <p:nvGrpSpPr>
            <p:cNvPr id="395" name="组合 67604"/>
            <p:cNvGrpSpPr/>
            <p:nvPr/>
          </p:nvGrpSpPr>
          <p:grpSpPr>
            <a:xfrm>
              <a:off x="5430600" y="1263600"/>
              <a:ext cx="1132920" cy="944640"/>
              <a:chOff x="5430600" y="1263600"/>
              <a:chExt cx="1132920" cy="944640"/>
            </a:xfrm>
          </p:grpSpPr>
          <p:sp>
            <p:nvSpPr>
              <p:cNvPr id="396" name="矩形 67601"/>
              <p:cNvSpPr/>
              <p:nvPr/>
            </p:nvSpPr>
            <p:spPr>
              <a:xfrm>
                <a:off x="5430600" y="1488600"/>
                <a:ext cx="94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η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7" name="内容占位符 67602" descr=""/>
              <p:cNvPicPr/>
              <p:nvPr/>
            </p:nvPicPr>
            <p:blipFill>
              <a:blip r:embed="rId5"/>
              <a:stretch/>
            </p:blipFill>
            <p:spPr>
              <a:xfrm>
                <a:off x="5954400" y="1263600"/>
                <a:ext cx="609120" cy="94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8" name="矩形 67614"/>
            <p:cNvSpPr/>
            <p:nvPr/>
          </p:nvSpPr>
          <p:spPr>
            <a:xfrm>
              <a:off x="4873680" y="1487520"/>
              <a:ext cx="70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即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67624"/>
          <p:cNvGrpSpPr/>
          <p:nvPr/>
        </p:nvGrpSpPr>
        <p:grpSpPr>
          <a:xfrm>
            <a:off x="2549160" y="5499000"/>
            <a:ext cx="2186280" cy="982080"/>
            <a:chOff x="2549160" y="5499000"/>
            <a:chExt cx="2186280" cy="982080"/>
          </a:xfrm>
        </p:grpSpPr>
        <p:sp>
          <p:nvSpPr>
            <p:cNvPr id="400" name="矩形 67616"/>
            <p:cNvSpPr/>
            <p:nvPr/>
          </p:nvSpPr>
          <p:spPr>
            <a:xfrm>
              <a:off x="2549160" y="5724360"/>
              <a:ext cx="577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即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组合 67623"/>
            <p:cNvGrpSpPr/>
            <p:nvPr/>
          </p:nvGrpSpPr>
          <p:grpSpPr>
            <a:xfrm>
              <a:off x="3070080" y="5499000"/>
              <a:ext cx="1665360" cy="982080"/>
              <a:chOff x="3070080" y="5499000"/>
              <a:chExt cx="1665360" cy="982080"/>
            </a:xfrm>
          </p:grpSpPr>
          <p:sp>
            <p:nvSpPr>
              <p:cNvPr id="402" name="矩形 67617"/>
              <p:cNvSpPr/>
              <p:nvPr/>
            </p:nvSpPr>
            <p:spPr>
              <a:xfrm>
                <a:off x="3070080" y="5725440"/>
                <a:ext cx="94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η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组合 67619"/>
              <p:cNvGrpSpPr/>
              <p:nvPr/>
            </p:nvGrpSpPr>
            <p:grpSpPr>
              <a:xfrm>
                <a:off x="3654000" y="5499000"/>
                <a:ext cx="1081440" cy="982080"/>
                <a:chOff x="3654000" y="5499000"/>
                <a:chExt cx="1081440" cy="982080"/>
              </a:xfrm>
            </p:grpSpPr>
            <p:sp>
              <p:nvSpPr>
                <p:cNvPr id="404" name="直接连接符 67620"/>
                <p:cNvSpPr/>
                <p:nvPr/>
              </p:nvSpPr>
              <p:spPr>
                <a:xfrm>
                  <a:off x="3654000" y="6024600"/>
                  <a:ext cx="1081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矩形 67621"/>
                <p:cNvSpPr/>
                <p:nvPr/>
              </p:nvSpPr>
              <p:spPr>
                <a:xfrm>
                  <a:off x="3696480" y="5499000"/>
                  <a:ext cx="10389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G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+</a:t>
                  </a:r>
                  <a:r>
                    <a:rPr b="0" i="1" lang="en-US" sz="2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G</a:t>
                  </a:r>
                  <a:r>
                    <a:rPr b="0" lang="zh-CN" sz="2600" spc="-1" strike="noStrike" baseline="-25000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动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矩形 67622"/>
                <p:cNvSpPr/>
                <p:nvPr/>
              </p:nvSpPr>
              <p:spPr>
                <a:xfrm>
                  <a:off x="3978000" y="5991120"/>
                  <a:ext cx="420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G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3" dur="1" fill="hold"/>
                                  <p:tgtEl>
                                    <p:spTgt spid="3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431640" y="503280"/>
            <a:ext cx="8190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例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“测滑轮组机械效率”的实验中，用同一滑轮组进行两次实验，实验数据如下表：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此实验所用滑轮的个数至少是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个，其中动滑轮有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个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次实验测得滑轮组的机械效率为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第二次实验时滑轮组的机械效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次的机械效率（选填“大于”“小于”或“等于”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11280" y="4164120"/>
          <a:ext cx="8010360" cy="2116080"/>
        </p:xfrm>
        <a:graphic>
          <a:graphicData uri="http://schemas.openxmlformats.org/drawingml/2006/table">
            <a:tbl>
              <a:tblPr/>
              <a:tblGrid>
                <a:gridCol w="633240"/>
                <a:gridCol w="1368720"/>
                <a:gridCol w="1792080"/>
                <a:gridCol w="1898640"/>
                <a:gridCol w="2317680"/>
              </a:tblGrid>
              <a:tr h="108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钩码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钩码上升高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弹簧测力计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弹簧测力计移动距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TextBox 10"/>
          <p:cNvSpPr/>
          <p:nvPr/>
        </p:nvSpPr>
        <p:spPr>
          <a:xfrm>
            <a:off x="5165640" y="1417680"/>
            <a:ext cx="6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752400" y="1909800"/>
            <a:ext cx="55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0"/>
          <p:cNvSpPr/>
          <p:nvPr/>
        </p:nvSpPr>
        <p:spPr>
          <a:xfrm>
            <a:off x="6259680" y="2400480"/>
            <a:ext cx="135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2.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0"/>
          <p:cNvSpPr/>
          <p:nvPr/>
        </p:nvSpPr>
        <p:spPr>
          <a:xfrm>
            <a:off x="4737240" y="2892600"/>
            <a:ext cx="135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大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00Z</dcterms:created>
  <dc:creator/>
  <dc:description/>
  <dc:language>en-US</dc:language>
  <cp:lastModifiedBy>Administrator</cp:lastModifiedBy>
  <dcterms:modified xsi:type="dcterms:W3CDTF">2019-01-09T08:48:36Z</dcterms:modified>
  <cp:revision>6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